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683-8C90-4C98-B564-8065F904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DBA-A7F6-4FFD-BD6A-8EF070B9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F88-35D7-4AC0-95EF-54F2D51D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CD6-B734-4552-9A99-402CDF41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4A21-2F83-4D16-93E6-2A98D6F3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8061-2106-4B61-B0AE-4FB3AD8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1CA3-9D7A-4F87-AF44-61F2CA71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ACF-3ADC-48B7-9511-EB755AED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4CDA-7E03-46F0-9A54-485C1123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1349-F5A1-4D94-AC0B-26D21417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DD00-B406-438A-A35A-4AC564B8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4FC-1297-4511-A333-2ED524AB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DC3B-6918-4430-9106-941F555C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281D-5C89-4060-BFC0-052E61C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7B90-5DFA-484D-9B62-84EFEFA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699-AD5E-4B24-995D-666C0E60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E960-314F-4227-9E6C-E03D2F32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86A-B572-4550-AEE3-60081B95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835-EE00-468D-BEE5-C65D987D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9C1-96D0-4E34-A805-35B7A61F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6D9-2146-45AD-B39C-B4192563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579-9297-4FF7-AD82-D6C6B66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BD0-F535-4DFF-8E31-462D34D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C78-FD2C-4304-A1FD-3212467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28D4-5008-434B-B80A-15AB77AA96E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0FDA-E74E-4940-89DC-5AA81B20BA1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crets of VDct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placing dictation components in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7B1F-1D7C-415C-A088-670ACA7C27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 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mplements formatting and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ed on concept of “Hidden Edit Control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Dct contains a copy of the user’s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types, changes made to user’s document are copied into VDct’s copy of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user dictates, VDct inserts dictated text into its copy and then tells user’s document about the chang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 exposes VDct obje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e windict.py (sample code) and natlink.txt (doc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2EC-2788-4821-B79D-6C2901E31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Ty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typ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ext changes copied to VDct’s copy of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Tex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updates Select XYZ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317-6506-4B70-A14C-D4E18927CF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Dct: Example of Dicta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r dictates a phr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gets grammar callback with resul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formats text and inserts it in its co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Dct calls back to edit contr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Obj.setChangeCallba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es back information about the text chan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dit control updates its conten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7C1-0871-4B46-B3AD-2725767110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Replace VD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sign a module which talks directly to NatSpeak Server (using NatLink or in C++ directly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 desired subset of VDct compon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face to application can be anyth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 recommend using the hidden edit control model and mimicking the same VDct data fl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need to modify NatSpeak, your applications simply use your replacement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editor, Microsoft Word, etc. will continue to use built-in version of VDc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5E2-AB17-423C-9D02-49FD1245CC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sic formatting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pacing, capitalization, etc. from punctu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vanced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tes, times, numbers, currency, phone numbers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ctation con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” comma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C87-9429-4396-BBDA-672714124A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 of VDct Components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rrection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That”, “Spell That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oice list fo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lling grammar during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aptation after corr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sume With”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ayback of  recorded spee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018-0077-4880-8418-ACCC1C8846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VDct Compon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038-09E7-401D-86C0-D7D5727A35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Di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gotResultsObject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ed when recognition occu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d recognized words and ResObj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ctivate the grammar whenever the target application has the focu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beginCallback() to test for active wind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ll activate() with window hand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 not make your dictation grammar global, it will conflict with NaturalTex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A28-8023-4BCC-A575-09AA4328E7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Sampl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Di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tate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, self.state = nsformat.formatWords(words, self.stat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Formatted: &lt;%s&gt;' % 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DictGramBase for dicta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743200"/>
            <a:ext cx="2816280" cy="580680"/>
          </a:xfrm>
          <a:prstGeom prst="borderCallout1">
            <a:avLst>
              <a:gd name="adj1" fmla="val 18750"/>
              <a:gd name="adj2" fmla="val -8333"/>
              <a:gd name="adj3" fmla="val 16726"/>
              <a:gd name="adj4" fmla="val -9271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 call load(), there is no text form of the gramm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632040"/>
            <a:ext cx="2663640" cy="824040"/>
          </a:xfrm>
          <a:prstGeom prst="borderCallout1">
            <a:avLst>
              <a:gd name="adj1" fmla="val 18750"/>
              <a:gd name="adj2" fmla="val -8333"/>
              <a:gd name="adj3" fmla="val 76328"/>
              <a:gd name="adj4" fmla="val -5583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like a command grammar except there is no rule na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715000"/>
            <a:ext cx="3047760" cy="824040"/>
          </a:xfrm>
          <a:prstGeom prst="borderCallout1">
            <a:avLst>
              <a:gd name="adj1" fmla="val 18750"/>
              <a:gd name="adj2" fmla="val -8333"/>
              <a:gd name="adj3" fmla="val -83361"/>
              <a:gd name="adj4" fmla="val -3957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is called with the list of recognized words; gotResultObject() also work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9B0-2C3B-40C2-AEA8-2075C4CC61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Hyphothe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ile speaking, current best guess at the recognized text is available (“hyphothesis”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e a hypothesisCall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ssed a list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at the words and display during reco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ither in the application window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in a pop-up window like with NatSpea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call back into NatLink from hyphothesis callback (wordInfo is not availabl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ing hypothesis displayed makes recognizer seem more respons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613-695B-4122-9D18-92FE175B66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was given to the Voice Coder’s group on June 25, 200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© Copyright 2000 by Joel Goul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B0E-FFA0-4ADB-9CC6-45DCF785B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ry word has an associated 32-bit wordInf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st of those bits control basic format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format text, use a state mach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e is current capitalization/spacing st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put is 32-bit wordInfo value for each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NatSpeak never tests the spelling of the wor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 is modified state, formatted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s are defined in natlinkutils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VocEdit to look at flags for existing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564-0931-417F-93B6-03ED7FCA81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 Mach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w distributing a new file: nsformat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ll be part of next NatLink rele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sformat.py contains a simplified formatting state machine for NatSpea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andles capitalization and spacing for normal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utput,state = formatWords(words,sta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an initial state of None for empty docu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 call formatWord for every word so you can record the formatting state after every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0D2-B4E2-4AEB-A30C-F400A4F48E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matting Sta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formatting state after every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the insertion point is moved, you can use the formatting state for that position in the docum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necessary, compute the formatting state by looking backwa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normal word: 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 state =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rt of document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no_space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fter period: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ag_two_spaces_next, flag_active_cap_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69A-8B0C-49F2-9BBB-A32C0B0592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Word Fla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0 – set for all user added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causes word to be marked in Voc Edit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3 – set to prevent deletion of w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 this off to allow word to be dele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 not delete too many words marked as do-not-dele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t 29 – set if word added from Voc Buil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uses word to be added with a lower LM sco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this flag when adding hundreds of words to avoid screwing up the language mod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167-AF8D-4B4D-8DBA-A7896A8E35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vanced Forma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uses a chart parser to format dates, time, numbers, currency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ne hundred dollars and two cents 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$100.0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driven from a set of rewrite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f indicated sequence of tokens is seen in hidden edit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ute a block of replacement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advanced formatting in your own VDct, you will have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1) Code a simple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2) Develop your own set of rewrite ru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C54-DD2B-4FC5-ACC2-F1BC46F279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ntex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tion is more accurate if you tell recognizer the words just before curs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DictGramBase.setContext() at recog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 in text just before insertion poi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clude at least two words if poss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ords after insertion point are not u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t needed if cursor is not changed after dic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remembers the last result as the context for the next recogn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240-AE9C-473D-8F42-97BFC1023A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Gramm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has special grammar type to implement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n instance of SelectGram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apper around gramObj, defined in natlinkutils.p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creating the grammar, pass in a list of verb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uses “Select”, “Correct”, “Insert After”,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recog start, make sure grammar contains a copy of the text currently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.setSelectText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tSpeak automatically parses text into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FDC-F615-4DFD-8A71-E7BEFDCFB8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Selection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tion grammar gotResultsObject() gets called when user says “Select XYZ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include the verb (select or correct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s also include the range of text sel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automatically handles “Select XYZ through ABC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 does not always find closest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choice list to find alternativ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ck the alternative which is closest to curs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C4A-D261-4EF1-98B4-C2AAA5DB2D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MyGrammar(SelectGram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__init__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ictGramBase.__init__(self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 ['Select', 'Correct'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SelectText(textBuffer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Start of recognition...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not self.isActiv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moduleInfo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isActive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(self, words, startPos, endPo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Print the results of the Select recogn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Heard: &lt;%s&gt;' % string.join(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textBuff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 = ( output[:startPos] + '&lt;' +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output[startPos:endPos] + '&gt;' + output[endPos:] 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print 'Top choice =',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342900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-53314"/>
              <a:gd name="adj4" fmla="val -5166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l the selection grammar the block of text to select withi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175248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27259"/>
              <a:gd name="adj4" fmla="val -7450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electGramBase for selection grammar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55888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32527"/>
              <a:gd name="adj4" fmla="val -5631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load() and pass in a list of verb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648320"/>
            <a:ext cx="2206800" cy="824040"/>
          </a:xfrm>
          <a:prstGeom prst="borderCallout1">
            <a:avLst>
              <a:gd name="adj1" fmla="val 18750"/>
              <a:gd name="adj2" fmla="val -8333"/>
              <a:gd name="adj3" fmla="val 13842"/>
              <a:gd name="adj4" fmla="val -3826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Results() returns the range of one possible selec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87A-CC2A-4889-841C-38F2008376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ection Sample Cod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need to search the choice list for all blocks of text which match the sel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 = [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ry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bestScore = resObj.getWordInfo(0)[0][2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i in range(100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ordInfo = resObj.getWordInfo(i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ordInfo[0][2] != bestScor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ranges.append(resObj.getSelectInfo(self.gramObj, i)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except natlink.OutOfRang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3048120"/>
            <a:ext cx="2282760" cy="824040"/>
          </a:xfrm>
          <a:prstGeom prst="borderCallout1">
            <a:avLst>
              <a:gd name="adj1" fmla="val 18750"/>
              <a:gd name="adj2" fmla="val -8333"/>
              <a:gd name="adj3" fmla="val 71833"/>
              <a:gd name="adj4" fmla="val -4220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re is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ement of wordInfo tuple for first word in res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562720"/>
            <a:ext cx="3124080" cy="824040"/>
          </a:xfrm>
          <a:prstGeom prst="borderCallout1">
            <a:avLst>
              <a:gd name="adj1" fmla="val 18750"/>
              <a:gd name="adj2" fmla="val -8333"/>
              <a:gd name="adj3" fmla="val -89736"/>
              <a:gd name="adj4" fmla="val -48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up the selection range for every entry in the choice list with the same sco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E19-0479-4018-9332-E12E15AF96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presentation explains how to replace VDct, the dictation subsystem in Dragon NaturallySpeaking, with your ow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ed around NatLink, the Python Macro System for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7BE-998F-413F-A216-E21F856F9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cta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create command grammars inside of your VDct for correction and formatt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an instance of GrammarB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ss a set of rules to GrammarBase.load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and processing is the same as when you use NatLink as a macro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command grammars f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ratch That, Correct That, Spell That, 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1C7-5E7A-401E-985A-7A8557E1AC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do, Redo, Scratch Th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mplement your own undo/redo stac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gorithms are very easy and well understo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cratch That” is like an un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does nothing if last change was not speec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ple Scratch That’s do multiple un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, undo should undo Scratch Th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are free to define your own behavi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AB2-2D08-4329-BF60-1C694595BB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rection Comman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will have to implement your own correction commands and mechanis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command grammar for correction cm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1&gt; = correct th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cmd2&gt; = spell that [ &lt;dgnletters&gt; ]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your own user interface fo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at you know what text is select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66F-DEF6-4F15-9453-2BE884EE3F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reating a Choice Lis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can be queried for choice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s(N) for Nth choi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are correcting only part of an utterance, you have to extract choices from lis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ordInfo() returns wor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ok up word start and end time for word/phrase being corr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arch through other choices to find word/phrases which similar start and end tim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83B-4057-4385-BFB0-DE9FC75CBE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ckup Diction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ce the user start typing, you will have to get words from a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t use Dragon’s word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iterator function has not been expos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nd a list of words from somewhere el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ild a dictionary which can be queried by prefi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prons, once you have a word list NatSpeak can look up the prons in its own dictio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CA3-0666-4A57-B299-A6B374669D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dapting after Correc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fter a real correction, perform adapt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pute the words which match the whole utterance (only a part may have been correcte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ll ResObj.correction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gnizer may reject is correction is too different from utterance to use for train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further action is required in either c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76D-BE10-461B-B7FB-1C7B543366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me With” Comman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ume With &lt;word&gt; &lt;more text&gt;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here &lt;word&gt; was dictated recentl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laces everything after &lt;word&gt; with &lt;more text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f you want this command, you will have to implement it with a command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rule&gt; = resume with {words} &lt;dgndictation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t list “words” with last N words dicta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grammar is recognized, modify the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339-BEB9-478D-AB8E-31F054DE30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Play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get the wave for any resul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Obj.getWave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ave is 11.025Khz, 16 bit, mo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layback using Windows multimedia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will have to find or write your own code for th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play part of an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dex into the wave using the word star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resObj.getWordInfo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DE1-B382-4437-B9A9-2E951D4A16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ation Hi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2ED-3E80-4188-B83B-88007483E5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rack of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many of the VDct algorithms you need to know what result object corresponds to a block of text on the scre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: correction and playba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ember the result objects passed to gotResultsObject() for the dictation gramm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a link between the copy of the user’s text and the result object for that dictated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9F4-3414-4B3C-B815-2A39AFF6EA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5C4-BA0E-44BA-BE3E-A5FBCD72FC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ndling Text Modific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happens if user types or overspeaks a portion of an utteranc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version 1 and 2 simply discarded the result object for the modifie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prevented adaptation and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dern NatSpeaks try to keep track of sections of result ob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this extreme is probably not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A47-5FD6-41CF-BDDE-FE071D1FFF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eping Text Synchronize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eep the real text and VDct’s copy of the text synchronized at all tim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best to update VDct as soon as user changes the edit control (i.e. by typing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s allows VDct to update Select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s it easier to keep text and results align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 correctness, it is enough to update the contents of the hidden edit control at recognition sta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also best to lock out user input in the middle of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avoid user changes at the same time as dic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4FA-9AC0-477D-98ED-8C80023F1D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cognition Start Bookkeep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BeginCallback() is called at start of every recogn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cognizer will pause until you return from fun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uring callback, do bookkeeping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 sure text is synchronized with appl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et the location of the insertion point from the app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tivate or deactivate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select grammar from 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dictation con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pdate “Resume With” word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DE0-55BB-4A55-BAE4-9EA5511D19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xing Commands in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mmand (and select) grammars are only recognized when surrounded by pau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is possible to implement pause-less commands when you rewrite VD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your commands in some CFG form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can every dictation result for a sequence of words which matches CF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 example, with a chart pars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move those words from the text to be inserted  and execute the command 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D45-F118-42A6-9F05-C77F4E6C2E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anaging W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ddWord() adds a word to dictation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You do not need to specify the pron, NatSpeak will either lookup the pron or guess 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e sure to set the word fla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useradded for all new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gnwordflag_topicadded if adding lots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ther formatting flags as appropi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Speak’s VDct automatically adds any words which are in the user’s document if they are also in the backup diction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getWordInfo() to see if the word is in backup dic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669-63A1-49DC-80A3-63F00BBDD9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o Calls Who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 use NatLink (or NatSpeak), you must be in a Windows message loop for receive callbac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rite a NatLink grammar file which will be loaded automatically; in this case the message loop is inside NatSpeak it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e run from a Win32 GUI which includes a message loop (like DoModal() in winspch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, include a call to natlink.waitForSpeech() which enters a message box modal loop (like dictsamp.p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322-06BE-49F1-AEDB-32BBBFCAFC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Dct is designed for dictating English tex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s behavior makes it hard to use for programm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most VDct functionality can be written outside of NatSpeak, using the Server AP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y replacing VDct, you can chang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matting, correction mechanism, correction commands, selection behavior, et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wraps enough of Server API to make it possible to rewrite VDct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DF2-FAE9-46F1-9FBB-A227889315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B2AD-DB49-4DC9-951C-AE0BDE5944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SAPI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ech Application Programming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igned by Microsoft as a uniform way of supporting speech recognition in Window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is architected to mirror SAPI 4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mplements SAPI SR, VDct and VCmd AP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though NatSpeak contains no Microsoft co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s numerous Dragon-specific extens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59E-6A0E-4950-88A4-15045801B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PI Architect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648320"/>
            <a:ext cx="655308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666880"/>
            <a:ext cx="205740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md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666880"/>
            <a:ext cx="2362320" cy="368280"/>
          </a:xfrm>
          <a:prstGeom prst="rect">
            <a:avLst/>
          </a:prstGeom>
          <a:solidFill>
            <a:srgbClr val="ff9900"/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ct” AP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048120"/>
            <a:ext cx="236232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Dictation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048120"/>
            <a:ext cx="2057400" cy="1477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Command Suppor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6553080" cy="1202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gon NaturallySpeaking “Server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36920"/>
            <a:ext cx="2130480" cy="1067400"/>
          </a:xfrm>
          <a:prstGeom prst="borderCallout1">
            <a:avLst>
              <a:gd name="adj1" fmla="val 18750"/>
              <a:gd name="adj2" fmla="val -8333"/>
              <a:gd name="adj3" fmla="val 126699"/>
              <a:gd name="adj4" fmla="val -39634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NatLink funcs talk directly to this API.  GramObj and ResObj inside her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1828800"/>
            <a:ext cx="2130480" cy="824040"/>
          </a:xfrm>
          <a:prstGeom prst="borderCallout1">
            <a:avLst>
              <a:gd name="adj1" fmla="val 18750"/>
              <a:gd name="adj2" fmla="val -8333"/>
              <a:gd name="adj3" fmla="val 118513"/>
              <a:gd name="adj4" fmla="val -3650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Link exposes this API through DictObj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676520"/>
            <a:ext cx="2590920" cy="824040"/>
          </a:xfrm>
          <a:prstGeom prst="borderCallout1">
            <a:avLst>
              <a:gd name="adj1" fmla="val 18750"/>
              <a:gd name="adj2" fmla="val -8333"/>
              <a:gd name="adj3" fmla="val 143314"/>
              <a:gd name="adj4" fmla="val -5372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xposed by NatLink.  Used for Professional Edition macro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349-7142-4DD0-9FA6-058C613D4B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 of Server Obje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s create grammar objec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mand (CFG) grammars, like NatLink macr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ation grammars, which return text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ion grammars, for “Select XYZ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ent registers a callback function for when that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end of recognition, server creates result obje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es result object back to recognized gramm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ult object can be queried for choice li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3A7-7BB0-4F31-B1C8-66122CDDA4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 exposes grammar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ramObj.load() creates grammar from bina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ame function creates all 3 grammar typ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Obj.setResultsCallback() to register a callback when grammar i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rammarBase is a wrapper around GramObj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ctGramBase for dicta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ectGramBase for selection gramma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the grammar base classes is option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ave code to build binary form (which can be copied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urns callbacks into calls of member fun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D01-CB26-4C78-8415-8891C7F69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nterface to Server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 exposes result object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ference to ResObj is passed to callback function (GramObj.setResultCallback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ords(N) returns recognized words for Nth choi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correction() is used to train recognizer after corre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Obj.getWave() returns wave for play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AAE-6C54-4978-A374-89DD01184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1:14:16Z</dcterms:modified>
  <cp:revision>37</cp:revision>
  <dc:subject/>
  <dc:title>NatLink: A Python Macro System for Dragon NaturallySpeaking</dc:title>
</cp:coreProperties>
</file>