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FEA-35C9-4336-8C66-9F3F7284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DA8-3238-4102-9F8B-8600B9E4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A9C-6656-4040-AD8A-1D2D4907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036-55E4-4A3D-AC47-40F1D73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D01-F194-40BF-881B-0261C215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FDE5-DD42-4888-8D7C-CD5E370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111E-E4A1-4FE1-95ED-84C4000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1893-FA35-4837-B130-EB446E6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97E-3FDC-489F-AF7E-7431BB9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4A61-72AB-4C17-81FE-260C990D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73A-2598-4670-91B9-0079D4F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BFD-0A63-474F-8C2A-3E44E67D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3BC1-A422-43D8-8F5E-1168669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B6E-F9DC-4E6E-A318-3CBA029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A5AA-8E4D-4FB3-82B6-F9CD3B1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578A-288C-421C-ACB4-26F3F421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3F1B-40A8-4029-B8AD-36C5CA28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9D8-685B-49F6-A0AC-3CF8D2A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D6B-6C32-4021-A205-E78BBA3E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FBD-EA28-46EB-82B4-C6DC873B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780-2675-4F20-845C-C3FA1F7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BE0-9D89-44C9-8884-42C0E65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7A3-73FF-4A6D-BAF6-27EF6D9A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01A-AE9A-4369-AC33-1B49DAE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0B8-6B6F-44F9-B423-30E7DF4BE8A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8EE-8775-48B0-A931-AEE24B095A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: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 Python Macro System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or Dragon NaturallySpea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Joel Gould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irector of Emerging Technologies</a:t>
            </a:r>
            <a:br>
              <a:rPr sz="3200"/>
            </a:b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Dragon System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B9F2-2853-4EBD-8717-6217AF1D3B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88C-BBA2-4F3B-B510-13BE119E3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you Need to Instal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y edition, version 3.0 or bet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1.5.2 for Windows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y152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do not need to install Tcl/T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: natlink.zip from 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n32 extensions are optional: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32all.exe from http://www.python.org/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8FA-1CAC-46B3-BE74-649FEA585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tting up NatLin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stall NatSpeak and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zip natlink.zip into c:\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n \NatLink\MacroSystem\EnableNL.ex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sets the necessary registry vari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also turns NatLink on or o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un sample macros, copy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om: \NatLink\SampleMac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o: \NatLink\MacroSyst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D38-20DA-4FA5-801F-E664656495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Create Macro F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 files are Python source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Wordpad or any other text edi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ve files as text with .py exten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lobal files should be named _xxx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p-specific files should be named with the application name (ex: wordpad_xxx.py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py files to \NatLink\Macro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 to \NatSpeak\Users\username\Curr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F44-A250-49AF-AE90-75B06D220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 _sample1.py contains one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ay “demo sample one” and it type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ard macro “sample on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93A-1F3A-4740-AD42-8AFBE0EF08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urce Code for _sample1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mport natlin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rom natlinkutils import *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tart&gt; exported = demo sample on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Heard macro "sample one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ThisGrammar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.initializ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unload(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thisGramma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thisGrammar: thisGrammar.unload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thisGrammar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828800"/>
            <a:ext cx="2210040" cy="824040"/>
          </a:xfrm>
          <a:prstGeom prst="borderCallout1">
            <a:avLst>
              <a:gd name="adj1" fmla="val 18750"/>
              <a:gd name="adj2" fmla="val -8333"/>
              <a:gd name="adj3" fmla="val 14318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You can sa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demo sample one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419720"/>
            <a:ext cx="2209680" cy="824040"/>
          </a:xfrm>
          <a:prstGeom prst="borderCallout1">
            <a:avLst>
              <a:gd name="adj1" fmla="val 18750"/>
              <a:gd name="adj2" fmla="val -8333"/>
              <a:gd name="adj3" fmla="val -66023"/>
              <a:gd name="adj4" fmla="val -4775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action.  We type text into the active window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60556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28064"/>
              <a:gd name="adj4" fmla="val -4179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rest of this file is boiler plat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11480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F9-CB20-4CCD-869F-4E35696876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Example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d a second command with alternativ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ype (into application) the command and alternative which was recogniz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will tell you which rule was recognized by calling a named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firstRule for &lt;first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_secondRule for &lt;secondRule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3D0-906C-425E-A2DF-2FC62DD315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2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firstRule&gt; exported = demo sample two [ hel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&lt;secondRule&gt; exported = demo sample tw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( red | blue | green | purple | black | white | yellow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orange | magenta | cyan | gray 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first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Say "demo sample two {ctrl+i}color{ctrl+i}"{enter}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econd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cd3333"/>
                </a:solidFill>
                <a:latin typeface="Lucida Console"/>
              </a:rPr>
              <a:t>natlink.playString('The color is "%s" {enter}'%words[3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143615"/>
              <a:gd name="adj4" fmla="val -4661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grammar.  It has two rule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347184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121125"/>
              <a:gd name="adj4" fmla="val -15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firstRule” is hear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389560"/>
            <a:ext cx="3048120" cy="1067400"/>
          </a:xfrm>
          <a:prstGeom prst="borderCallout1">
            <a:avLst>
              <a:gd name="adj1" fmla="val 18750"/>
              <a:gd name="adj2" fmla="val -8333"/>
              <a:gd name="adj3" fmla="val -30476"/>
              <a:gd name="adj4" fmla="val -2806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e do when “secondRule” is heard.  Words[3] is the 4th word in the resul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DCB-CCF5-4BF4-B67A-578050F659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AF2-FBB2-467D-8598-CB27CE34C3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rings and Thing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ring constants can use either single quote or double quo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is is a string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This string has a single quote (') inside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riple quotes for multiple lin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line 1 of str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ine 2 of string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lus will concatenate two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one'+'two'='onetwo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cent sign allows sprintf-like func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I heard %d' % 13 = 'I heard 13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'the %s costs $%1.2f' % ('book',5) = 'the book costs $5.00'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C67-3EDF-40EF-8487-7960CFCC5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pyright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is version 1.1 of this 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nges: look in corner of slides for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V 1.1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indic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version of the presentation was given to the Voice Coder’s group on June 25, 20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ontents of this presentation are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© Copyright 1999-2000 by Joel Gou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mission is hereby given to freely distribute this presentation unmodifi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act Joel Gould for more information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joelg@alum.mit.ed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9BD-D71E-41A9-9116-F69168054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ents and Blo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ents begin with pound sig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# Comment from here until end of lin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hello' # comment starts at pound sig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locks are delimited by indentation, the line which introduces a block ends in a col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f a==1 and b==2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a is one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b is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either a is not one or b is not two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x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while x &lt; 10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 = x + 1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'all done'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5AB-D2D3-43F1-A718-F683D9B535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sts and Loo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like arrays; they are sets of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brackets when defining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myList = [1,2,3]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another = ['one',2,myList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to get or change a list el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myList[1]    # prints 2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nother[2]   # prints [1,2,3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for” statement can iterate over a lis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total = 0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for x in myList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total + x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x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prints 6 (1+2+3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FE1-D540-4B33-8EDF-AC35A10E3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fining and Calling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the “def” statement to define a fun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 the arguments in parens after the nam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globalFunction(x,y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total =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the total is',tota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of a function cal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globalFunction(4,7)  # this prints "the total is 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turn statement is optional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def addNumbers(x,y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x + y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addNumbers(4,7)    # this prints "11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30B-5E88-4708-B10B-27C937366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dules and Clas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 functions inside other modules by using the module name before the function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import string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print string.upper('word'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classes with “class” statement and class functions with “def” statement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My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localFunction(self,x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'value is x'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 = MyClass          # create instance of MyClass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object.localFunction(10)  # prints "value is 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5B1-06FF-4352-9547-C634686790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elf and Class Inherit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f” param passed to class functions points back to that instance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ParentClass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sampleFunc(self,value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variable = value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parent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sampleFunc(10)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 self.variable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# returns 1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also use “self” to reference functions in parent classes (inherence)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class ChildClass(ParentClass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childFunc(self):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parentFunc()     # prints "10"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print self.variable         # also prints "10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2DA-EA32-41E0-8A26-8437ECF060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5D2-F45E-4D38-9FA4-6F3D3957F4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grammars are based on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include: rules, lists and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stinguished by how they are spell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, {list}, word, "word with space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pecification is a set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rule is combination of references to words, lists and other rules</a:t>
            </a:r>
            <a:br>
              <a:rPr sz="32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myRule&gt; = one &lt;subRule&gt; and {number} ;</a:t>
            </a:r>
            <a:br>
              <a:rPr sz="1400"/>
            </a:b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&lt;subRule&gt; = hundred | thousand 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47E-CA61-4D78-9C4A-B51DB7A8C7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fy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compiles a set of rules when a grammar is loaded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this compiles and load ru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should be defined in a Python string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 = "&lt;myRule&gt; = one two three;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gramSpec2 = """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go to slee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wake up;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e rules as rule-name, equal-sign, expression; end rule with a semico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6FA-88AF-46B3-96CC-88A93663FE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Rule 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a sequence must spoken in or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st say “one two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brackets for options expres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[ two ]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 or “one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ertical bar for alternatives, parens to grou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| three four ) fiv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ive” or “one three four fi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CDC-9B4F-4836-98C0-17F5548043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sted Rules and Repea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s can refer to other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&lt;subRule&gt; four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subRule&gt; = two |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four” or “one three fou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plus sign for repeats, one or more ti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one ( two )+ thr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say “one two three”, “one two two three”, “one two two two three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8E2-59F0-4A43-8A44-B1DECD602B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CAE-2C7D-4258-8015-7BA7492E0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orted and Imported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only activate “exported”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exported = one two three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orted rules can also be used by other grammars; define external rule as impor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myRule&gt; imported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&lt;myRule&gt;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defines three importable rul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words&gt; = set of all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dictation&gt; = repeated dictation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dgnletters&gt; = repeated spelling lett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13B-085D-4B86-970D-39CF5621E1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aling with (Grammar) Lis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s are sets of words defined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erencing a list causes it to be cre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&lt;rule&gt; = number {myList}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l list with words using setList function</a:t>
            </a:r>
            <a:br>
              <a:rPr sz="3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def initialize(self):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List('myList',['one','two','three'])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fill the list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now say “number one”, “number two” or “number thre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6D4-650E-4101-B7FD-A1B29F48F2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a Wor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in NatSpeak and NatLink are str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can have embedded spa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llo”, “New York”, “:-)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NatLink grammars, use quotes around words if the word is not just text or numb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lists are list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r recognition, words from lists are returned just like words in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C6A-63E3-4355-8469-C575F2A6D3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ecial Word Spellings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with separate spoken form are spelled with backslash:  “written\spoke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unctuation is most common exam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\period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{\open brac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ters are spelled with two backslas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\\l”, “b\\l”, “c\\l”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D30-731B-42D0-ABB1-FFAF31A7CB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 Syntax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requires rules in binary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inary format is defined by SAPI and is documented in SAPI docum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parser.py converts text to bina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syntax is describ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Speak also supports dictation grammars and “Select XYZ” grammars.  These are covered in another tal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B55-00E7-43C0-852F-169B71F336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085-741F-46FA-AEAC-B307B5618C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etting 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a rule is recognized, NatLink calls your function named “gotResults_xxx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“xxx” is the name of the ru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get passed the sequential words recognized in that ru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otResults(self,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ord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fullResult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unction called for innermost rule on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the following examp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8FF-1CB4-43BD-A063-9761BE3065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_sample3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&lt;ruleOne&gt;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= demo &lt;ruleTwo&gt; now plea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= sample thre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mainRul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mainRul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One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One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ruleTwo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Saw &lt;ruleTwo&gt; = %s{enter}' % repr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79132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-31907"/>
              <a:gd name="adj4" fmla="val 114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(x)” formats “x” into a printable string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02D-B368-4F2F-B352-1075B36CBA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unning Demo Sample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you say “demo sample 3 now please”, resulting text sent to application i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demo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Two&gt; = ['sample', 'thre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aw &lt;ruleOne&gt; = ['now','please'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ule “mainRule” has no words so gotResults_mainRule is never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otResults_ruleOne is called twice, before and after gotResults_ruleTwo is call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function only sees relevant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791-BB92-4652-8E69-D6FA08EC14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ther gotResults Callback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Init” is called fir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Results” is called l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oth get passed all the words recogniz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lled functions from previous 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Init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demo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Two( ['sample','thre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_ruleOne( [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gotResults( ['demo','sample','three','now','please'] 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A13-2326-4216-8A2E-7F27CA692C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urallySpeaking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ld’s first and best large vocabulary continuous speech recognition syst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imarily designed for dictation by vo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contains fully functional continuous command recognition (based on SAPI 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essional Edition includes simple basic-like language for writing simple 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750-5126-4665-BE0C-B61C13C01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String(keys) sends keystrok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SendKeys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clude special keystrokes in braces: “{enter}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setMicState(state) controls m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re state is 'on', 'off' or 'sleeping'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getMicState() returns current sta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2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execScript(command) runs any built-in NatSpeak scripting 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.execScript('SendKeys "{enter}"'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E63-BD85-440F-AE62-707EA2C173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re Common Fun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recognitionMimic(words) behaves as if passed words were “heard”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natlink.recognitionMimic(['Select','hello','there']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ks just like “HeardWord” in NatSpeak Pr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playEvents(list) to control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ss in a list of windows input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utils.py has constants and buttonClick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15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.getClipboard() returns clipboard tex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is to get text from ap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FFA-0B4B-43AE-AA78-F29B791305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Movement _sample4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&lt;start&gt; exported = demo sample four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cd3333"/>
                </a:solidFill>
                <a:latin typeface="Lucida Console"/>
              </a:rPr>
              <a:t># execute a control-left drag down 30 pixel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x,y = natlink.getCursorPos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natlink.playEvents( [ (wm_keydown,vk_control,1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down,x,y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mousemove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lbuttonup,x,y+30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      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wm_keyup,vk_control,1) ] 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266688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406500"/>
              <a:gd name="adj4" fmla="val -53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6095880"/>
            <a:ext cx="2133360" cy="337320"/>
          </a:xfrm>
          <a:prstGeom prst="borderCallout1">
            <a:avLst>
              <a:gd name="adj1" fmla="val 18750"/>
              <a:gd name="adj2" fmla="val -8333"/>
              <a:gd name="adj3" fmla="val -292643"/>
              <a:gd name="adj4" fmla="val -44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control ke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429000"/>
            <a:ext cx="1981440" cy="337320"/>
          </a:xfrm>
          <a:prstGeom prst="borderCallout1">
            <a:avLst>
              <a:gd name="adj1" fmla="val 18750"/>
              <a:gd name="adj2" fmla="val -8333"/>
              <a:gd name="adj3" fmla="val 255435"/>
              <a:gd name="adj4" fmla="val -510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left butt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4191120"/>
            <a:ext cx="1447920" cy="337320"/>
          </a:xfrm>
          <a:prstGeom prst="borderCallout1">
            <a:avLst>
              <a:gd name="adj1" fmla="val 18750"/>
              <a:gd name="adj2" fmla="val -8333"/>
              <a:gd name="adj3" fmla="val 103407"/>
              <a:gd name="adj4" fmla="val -4789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mous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224320"/>
            <a:ext cx="2210040" cy="580680"/>
          </a:xfrm>
          <a:prstGeom prst="borderCallout1">
            <a:avLst>
              <a:gd name="adj1" fmla="val 18750"/>
              <a:gd name="adj2" fmla="val -8333"/>
              <a:gd name="adj3" fmla="val -83393"/>
              <a:gd name="adj4" fmla="val -4841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left button (at new position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572000"/>
            <a:ext cx="1752840" cy="580680"/>
          </a:xfrm>
          <a:prstGeom prst="borderCallout1">
            <a:avLst>
              <a:gd name="adj1" fmla="val 18750"/>
              <a:gd name="adj2" fmla="val -8333"/>
              <a:gd name="adj3" fmla="val -110037"/>
              <a:gd name="adj4" fmla="val 155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current mouse pos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D92-1C37-4F73-B0E5-6C07C1C1A8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pboard Example _sample5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&lt;start&gt; exported = demo sample fiv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[ (1 | 2 | 3 | 4) words ]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figure out how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if len(words) &gt; 3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int(words[3]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count = 1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select that many word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right}{left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shift+left %d}'%coun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'{ctrl+c}'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text = natlink.getClipboard(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cd3333"/>
                </a:solidFill>
                <a:latin typeface="Lucida Console"/>
              </a:rPr>
              <a:t># reverse the text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ewText = reverse(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natlink.playString(newText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Lucida Console"/>
              </a:rPr>
              <a:t># ... 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019920"/>
            <a:ext cx="2209680" cy="580680"/>
          </a:xfrm>
          <a:prstGeom prst="borderCallout1">
            <a:avLst>
              <a:gd name="adj1" fmla="val 18750"/>
              <a:gd name="adj2" fmla="val -8333"/>
              <a:gd name="adj3" fmla="val -14680"/>
              <a:gd name="adj4" fmla="val -4604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e function defined later in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19520"/>
            <a:ext cx="2361960" cy="824040"/>
          </a:xfrm>
          <a:prstGeom prst="borderCallout1">
            <a:avLst>
              <a:gd name="adj1" fmla="val 18750"/>
              <a:gd name="adj2" fmla="val -8333"/>
              <a:gd name="adj3" fmla="val 142486"/>
              <a:gd name="adj4" fmla="val -9152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more than 3 words recognized, 4th word will be word count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038480"/>
            <a:ext cx="2362320" cy="580680"/>
          </a:xfrm>
          <a:prstGeom prst="borderCallout1">
            <a:avLst>
              <a:gd name="adj1" fmla="val 18750"/>
              <a:gd name="adj2" fmla="val -8333"/>
              <a:gd name="adj3" fmla="val 159972"/>
              <a:gd name="adj4" fmla="val -1665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elects previous “count” word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2451240" cy="580680"/>
          </a:xfrm>
          <a:prstGeom prst="borderCallout1">
            <a:avLst>
              <a:gd name="adj1" fmla="val 18750"/>
              <a:gd name="adj2" fmla="val -8333"/>
              <a:gd name="adj3" fmla="val 28995"/>
              <a:gd name="adj4" fmla="val -59439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y selected text to clipboard, then fetch i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2C6-2E42-4617-A7AF-F9ECC45C6B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bugging and using Pri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file is changed on disk, it is automatically reloads at start of utter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urning on mic also looks for new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output is shown in popup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ndow automatically appears when necess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errors cause tracebacks in wind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rrect file, toggle microphone to relo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“print” statement to display debug inf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ECD-0364-4A7A-A9B7-6A4FD9D936F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22B-61CD-4795-986C-B177C3F724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lobal vs App-Specif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underscore are always loaded; ex: _mouse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es whose name begins with a module name only load when that module i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: wordpad.py, excel_sample.p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a file is loaded it is always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restrict grammar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est for active application at start of uttera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0960" indent="-25416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, activate grammar for one specific windo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1DA-59DE-46B7-9826-4BC21FE70B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exported rule can be activ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has functions to activate and deactivate rules or sets of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) - makes name rule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All() - activates all exported ru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y default, activated rule is glob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f.activate(rule,window=N) - activates a rule only when window N is act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(de)activate rules at any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3B1-709B-44CB-801F-1640F02ADB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t of Utterance Call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defined, “gotBegin” function is called at the start of every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gets passed the module information: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dule filename, window caption, window i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“window id” can be passed to activate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matchWindow() to test window title</a:t>
            </a:r>
            <a:br>
              <a:rPr sz="32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if matchWindow(moduleInfo,’wordpad’,’font’)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activate(‘fontRule’,noError=1)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 else:</a:t>
            </a:r>
            <a:br>
              <a:rPr sz="1600"/>
            </a:b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Lucida Console"/>
              </a:rPr>
              <a:t>self.deactivate(‘fontRule’,noError=1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5638680"/>
            <a:ext cx="1752480" cy="824040"/>
          </a:xfrm>
          <a:prstGeom prst="borderCallout1">
            <a:avLst>
              <a:gd name="adj1" fmla="val 18750"/>
              <a:gd name="adj2" fmla="val -8333"/>
              <a:gd name="adj3" fmla="val 34888"/>
              <a:gd name="adj4" fmla="val -5678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s errors if rule is already (not) activ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728-A331-4814-8AD3-FE4A2D50809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Exclusive Gramma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any grammar is “exclusive” then only exclusive grammars will be ac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ows you to restrict recogn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ut you can not turn off dictation without also turning off all built-in command and contro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self.setExclusive(state), state is 0 or 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also call self.activate(rule,exclusive=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number of rules from any number of grammars can all be exclusive togeth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DE4-8B1F-44EB-A480-19B9B6929F7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Python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preted, object-oriented pgm.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ften compared to Perl, but more powerfu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runs on multiple O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al as a macro language since it is interpreted and interfaces easily with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used for web programming, numeric programming, rapid prototyping, etc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5CA-9648-4AF9-A310-0DA229E648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on Example _sample6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mainRule&gt; exported = demo sample six [ main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fontRule&gt; exported = demo sample six font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Drag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mainRule',window=windowId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dowId = matchWindow(moduleInfo,'natspeak','Font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dowId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('fontRule',exclusive=1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deactivate('fontRule',noError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setExclusive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200400"/>
            <a:ext cx="2133360" cy="824040"/>
          </a:xfrm>
          <a:prstGeom prst="borderCallout1">
            <a:avLst>
              <a:gd name="adj1" fmla="val 18750"/>
              <a:gd name="adj2" fmla="val -8333"/>
              <a:gd name="adj3" fmla="val 175194"/>
              <a:gd name="adj4" fmla="val -6635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&lt;mainRule&gt; to main window (has “Dragon” in title)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4343400"/>
            <a:ext cx="2209680" cy="1067400"/>
          </a:xfrm>
          <a:prstGeom prst="borderCallout1">
            <a:avLst>
              <a:gd name="adj1" fmla="val 18750"/>
              <a:gd name="adj2" fmla="val -8333"/>
              <a:gd name="adj3" fmla="val 96356"/>
              <a:gd name="adj4" fmla="val -68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 on &lt;fontRule&gt; exclusively when window title contains “Font”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571500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48555"/>
              <a:gd name="adj4" fmla="val -866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wise, turn off &lt;fontRule&gt; and exclusivenes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795320"/>
            <a:ext cx="2133720" cy="580680"/>
          </a:xfrm>
          <a:prstGeom prst="borderCallout1">
            <a:avLst>
              <a:gd name="adj1" fmla="val 18750"/>
              <a:gd name="adj2" fmla="val -8333"/>
              <a:gd name="adj3" fmla="val 320504"/>
              <a:gd name="adj4" fmla="val -116513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ivateAll() in initialize function !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3CA-05BC-47A5-B1BC-B724E15ED2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tivating Rules from a T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s is from my own Lotus Notes macr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def gotBegin(self, moduleInfo)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deactivateAll(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captions = [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Memo -', 'new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New Reply -', 'newReply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Inbox -', 'inbox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( '- Lotus Notes', 'readMemo' )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]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for caption,rule_name in captions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winHandle = matchWindow(moduleInfo, 'nlnotes', caption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self.activate(rule_name, window=winHandle)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400" spc="-1" strike="noStrike">
                <a:solidFill>
                  <a:srgbClr val="402000"/>
                </a:solidFill>
                <a:latin typeface="Lucida Console"/>
              </a:rPr>
              <a:t>retur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048120"/>
            <a:ext cx="2286000" cy="824040"/>
          </a:xfrm>
          <a:prstGeom prst="borderCallout1">
            <a:avLst>
              <a:gd name="adj1" fmla="val 18750"/>
              <a:gd name="adj2" fmla="val -8333"/>
              <a:gd name="adj3" fmla="val 96458"/>
              <a:gd name="adj4" fmla="val -7026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able maps caption substring to rule-name to activat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314440"/>
            <a:ext cx="3276720" cy="337320"/>
          </a:xfrm>
          <a:prstGeom prst="borderCallout1">
            <a:avLst>
              <a:gd name="adj1" fmla="val 18750"/>
              <a:gd name="adj2" fmla="val -8333"/>
              <a:gd name="adj3" fmla="val 179953"/>
              <a:gd name="adj4" fmla="val -4466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nothing by defaul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5562720"/>
            <a:ext cx="2514600" cy="824040"/>
          </a:xfrm>
          <a:prstGeom prst="borderCallout1">
            <a:avLst>
              <a:gd name="adj1" fmla="val 18750"/>
              <a:gd name="adj2" fmla="val -8333"/>
              <a:gd name="adj3" fmla="val -61222"/>
              <a:gd name="adj4" fmla="val -7182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over table to find first window caption which match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3CA-58E4-4E22-826C-A8170FC202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4ED-F732-441B-B65E-E2B0EF5027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sing OLE Auto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 can use OLE Automation from Python with the Python Win32 exten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ing excel_sample7.py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y “demo sample se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y cells which contain the name of  colors will change to match that co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41F-78CE-450C-8819-0B5B6DAE311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ract from excel_sample7.p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demo sample sev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Begin(self,moduleInfo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inHandle=matchWindow(moduleInfo,'excel','Microsoft Excel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winHandl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window=winHandl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application=win32com.client.Dispatch('Excel.Application'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ksheet=application.Workbooks(1).Worksheets(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row in range(1,50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col in 'ABCDEFGHIJKLMNOPQRSTUVWXYZ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=worksheet.Range(col+str(row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colorMap.has_key(cell.Valu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Font.Color=colorMap[cell.Value]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ell.Borders.Weight = consts.xlThic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927680"/>
            <a:ext cx="2362320" cy="824040"/>
          </a:xfrm>
          <a:prstGeom prst="borderCallout1">
            <a:avLst>
              <a:gd name="adj1" fmla="val 18750"/>
              <a:gd name="adj2" fmla="val -8333"/>
              <a:gd name="adj3" fmla="val 91481"/>
              <a:gd name="adj4" fmla="val -3903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” maps name of color to value (defined earlier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666880"/>
            <a:ext cx="2133720" cy="824040"/>
          </a:xfrm>
          <a:prstGeom prst="borderCallout1">
            <a:avLst>
              <a:gd name="adj1" fmla="val 18750"/>
              <a:gd name="adj2" fmla="val -8333"/>
              <a:gd name="adj3" fmla="val 228337"/>
              <a:gd name="adj4" fmla="val -302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 Automation code just like using Visual Basic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719360"/>
            <a:ext cx="2590920" cy="580680"/>
          </a:xfrm>
          <a:prstGeom prst="borderCallout1">
            <a:avLst>
              <a:gd name="adj1" fmla="val 18750"/>
              <a:gd name="adj2" fmla="val -8333"/>
              <a:gd name="adj3" fmla="val 324717"/>
              <a:gd name="adj4" fmla="val -69171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te grammar when we know window hand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BDF-9579-4B59-84FE-D81F06A106E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ouse Control in Pyth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_mouse.py included in NatLink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 mouse and caret like in DDWin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use down … slower … left … button click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"move down … faster … stop"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exclusive mode to limit comman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s timer callback to move the m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625-B142-4A50-B503-5D875E287B3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CatchAll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{emptyList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,allResults=1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Object(self,recogType,resObj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recogType == 'reject'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Non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lastResult = resObj.getWords(0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733400"/>
            <a:ext cx="3429000" cy="580680"/>
          </a:xfrm>
          <a:prstGeom prst="borderCallout1">
            <a:avLst>
              <a:gd name="adj1" fmla="val 18750"/>
              <a:gd name="adj2" fmla="val -8333"/>
              <a:gd name="adj3" fmla="val 225833"/>
              <a:gd name="adj4" fmla="val -3531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grammar is never recognized because list is empt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2895480"/>
            <a:ext cx="2895480" cy="824040"/>
          </a:xfrm>
          <a:prstGeom prst="borderCallout1">
            <a:avLst>
              <a:gd name="adj1" fmla="val 18750"/>
              <a:gd name="adj2" fmla="val -8333"/>
              <a:gd name="adj3" fmla="val 114277"/>
              <a:gd name="adj4" fmla="val -42638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allResults flag means that gotResultsObject is called for every recogni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343400"/>
            <a:ext cx="2743200" cy="824040"/>
          </a:xfrm>
          <a:prstGeom prst="borderCallout1">
            <a:avLst>
              <a:gd name="adj1" fmla="val 18750"/>
              <a:gd name="adj2" fmla="val -8333"/>
              <a:gd name="adj3" fmla="val 134712"/>
              <a:gd name="adj4" fmla="val -6984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every recognition, we remember what words were just recognize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BF6-3AF1-4E3E-89F7-D16780D297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ementing “Repeat That”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Repeat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start&gt; exported = repeat th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[ ( 1 | 2 | 3 | 4 | 5 | 6 | 7 | 8 | 9 |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10 | 20 | 30 | 40 | 50 | 100 ) times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start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lobal lastResul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en(words) &gt; 2: count = int(words[2]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else: count = 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if lastResult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for i in range(count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recognitionMimic(lastResult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1828800"/>
            <a:ext cx="3429000" cy="337320"/>
          </a:xfrm>
          <a:prstGeom prst="borderCallout1">
            <a:avLst>
              <a:gd name="adj1" fmla="val 18750"/>
              <a:gd name="adj2" fmla="val -8333"/>
              <a:gd name="adj3" fmla="val 205541"/>
              <a:gd name="adj4" fmla="val -1448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ce that the count is optio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3352680"/>
            <a:ext cx="4038480" cy="337320"/>
          </a:xfrm>
          <a:prstGeom prst="borderCallout1">
            <a:avLst>
              <a:gd name="adj1" fmla="val 18750"/>
              <a:gd name="adj2" fmla="val -8333"/>
              <a:gd name="adj3" fmla="val 387629"/>
              <a:gd name="adj4" fmla="val -18777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ord in the result is the cou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3886200"/>
            <a:ext cx="2971800" cy="1554120"/>
          </a:xfrm>
          <a:prstGeom prst="borderCallout1">
            <a:avLst>
              <a:gd name="adj1" fmla="val 18750"/>
              <a:gd name="adj2" fmla="val -8333"/>
              <a:gd name="adj3" fmla="val 99162"/>
              <a:gd name="adj4" fmla="val -43796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recognitionMimic to simulate the recognition of the same words; NatSpeak will test against active grammars or dictation as it the words were spoke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BC7-5AC6-4D0C-B5BC-B3A8D799CA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mmars with Dic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class ThisGrammar(GrammarBase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gramSpec = 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dictation&gt; imported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One&gt; exported = demo sample eight &lt;dgndictation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dgnletters&gt; imported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&lt;ruleTwo&gt; exported = demo sample eight spell &lt;dgnletters&gt; [ stop ]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"""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dictation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.reverse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gotResults_dgnletters(self,words,fullResults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words = map(lambda x: x[:1], words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natlink.playString(' ' + string.join(words, '')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def initialize(self)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load(self.gramSpec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self.activateAll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Lucida Console"/>
              </a:rPr>
              <a:t># 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752480"/>
            <a:ext cx="4495680" cy="580680"/>
          </a:xfrm>
          <a:prstGeom prst="borderCallout1">
            <a:avLst>
              <a:gd name="adj1" fmla="val 18750"/>
              <a:gd name="adj2" fmla="val -8333"/>
              <a:gd name="adj3" fmla="val 170879"/>
              <a:gd name="adj4" fmla="val -31592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dictation&gt; is built-in rule for dictation.  Optional word ”stop” is never recognized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5189400"/>
            <a:ext cx="4419720" cy="824040"/>
          </a:xfrm>
          <a:prstGeom prst="borderCallout1">
            <a:avLst>
              <a:gd name="adj1" fmla="val 18750"/>
              <a:gd name="adj2" fmla="val -8333"/>
              <a:gd name="adj3" fmla="val -242310"/>
              <a:gd name="adj4" fmla="val -35800"/>
            </a:avLst>
          </a:prstGeom>
          <a:solidFill>
            <a:srgbClr val="fcfdc6"/>
          </a:solidFill>
          <a:ln w="9360">
            <a:solidFill>
              <a:srgbClr val="402000"/>
            </a:solidFill>
            <a:miter/>
          </a:ln>
          <a:effectLst>
            <a:outerShdw dist="107932" dir="2700000" blurRad="0" rotWithShape="0">
              <a:srgbClr val="a08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dgnletters&gt; is built-in rule for spell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had to add word “spell” or the spelling was confused with dictation in &lt;ruleOne&gt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71F-130C-4AC1-8B43-72B011491D4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 of Today’s Tal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tting started with NatLin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ics of Python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ecifying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andling Recognition Resul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rolling Active Gramm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dvanced projec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ere to go for more hel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D43-4443-4D91-98BC-CAB013ED06F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is NatLin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tibility module (like NatText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write NatSpeak command macros in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Python language extens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atLink allows you to control NatSpeak from Pyth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ks with all versions of NatSpea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ree and open-source, freely distributable*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8CA-994D-43E9-A7D2-F0656A384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Docume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\NatLink\NatLinkSource\NatLink.txt contains the documentation for calling the natlink module from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 macro files are all heavily documented; in \NatLink\SampleMac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yntax defined in gramparser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Base defined in natlinkutils.p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so defines utility functions and consta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7C3-831B-4B7F-B09A-F7BDC11B8F0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ere to Get More Help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el’s NatSpeak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synapseadaptive.com/joel/default.h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ython language web site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www.python.org/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ooks on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e Joel’s NatSpeak site for recommend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Python mailing lis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ttp://harvee.billerica.ma.us/mailman/listinfo/natpyth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ing COM from Python:</a:t>
            </a:r>
            <a:br>
              <a:rPr sz="2800"/>
            </a:b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ython Programming on Win32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by Mark Hammo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61D-94CD-4100-9AE5-1A6F916CC1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oking at the Source C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source code included in downlo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urce code is well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Microsoft Visual C++ 6.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features from Microsoft SAP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t SAPI documentation from Microsof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ragon-specific extensions not documen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69A-ADBE-48CD-BE26-B974FD038D2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 Do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Microphone Off”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EC2-8D78-4EB2-BFB3-C2B38D218B4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*Licensing Restri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requires that you have a legally licensed copy of Dragon NaturallySpeak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o use NatLink you must also agree to the license agreement for the NatSpeak toolk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on Natlink will require the NatSpeak toolki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NatSpeak toolkit is a free download from http://www.dragonsys.co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0199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2CA-D95A-4919-82D4-467C003C4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Better than Prof. Ed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s can include alternates, optionals, repeats and nested r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restrict recognition to one gram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change grammars at start of any recog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n have multiple macro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anges to macro files load immediate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ros have access to all features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A87-D3E0-4573-A7AF-D2F29C5B4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tLink is Harder to U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is not a supported product</a:t>
            </a:r>
            <a:br>
              <a:rPr sz="3200"/>
            </a:b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Do not call Tech Support with ques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tLink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ma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not work with NatSpeak &gt;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t will work fine with NatSpeak 5.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cumentation is not comple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GUI or fancy user interfa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quires some knowledge of Pyth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re like real program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3526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Times New Roman"/>
              </a:rPr>
              <a:t>V 1.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5F6-403B-434E-9D6C-D0E1E552A2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00:21Z</dcterms:created>
  <dc:creator>Preferred Customer</dc:creator>
  <dc:description/>
  <dc:language>en-US</dc:language>
  <cp:lastModifiedBy>Joel Gould</cp:lastModifiedBy>
  <cp:lastPrinted>1999-11-09T19:02:25Z</cp:lastPrinted>
  <dcterms:modified xsi:type="dcterms:W3CDTF">2000-06-25T10:13:39Z</dcterms:modified>
  <cp:revision>29</cp:revision>
  <dc:subject/>
  <dc:title>NatLink: A Python Macro System for Dragon NaturallySpeaking</dc:title>
</cp:coreProperties>
</file>