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14E-7EA9-447B-84E2-02CEA930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249-EFC7-4A69-B06E-4E45A2C5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9B2-F56B-470D-B462-9C16D6F3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4E4-8838-40EA-9BB8-2FD82A1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75F-7FF4-4429-A601-B5DF525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03E6-F9A2-41C5-AB23-45EE6B2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36F-7B7C-4289-A127-B68C39E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67B6-329D-4821-819E-902BF3E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E58-5FA3-4EF4-98C4-ECE40FA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A7F1-0BA6-43D1-B2A6-50BDDBF7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9CF6-FB21-4280-A6BC-0598DE3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36F-D992-46A6-B509-DC3AF8A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E33-21D5-46DF-A187-31A7490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8C8-5177-4307-B81D-34FDB1C1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9898-530A-4951-99CA-F06B1CD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5A7-112A-44A5-9099-D889DF81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3034-093F-4D24-A135-2166478E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D94-9695-4844-B2CC-1400A4C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C10-3E8D-4C6E-A43C-9AF35CD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DDB-F188-444B-99F2-AF236F2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BEC-E447-4EE9-84C9-54520849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052-9410-4C1A-B41B-D01D915C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F7-C300-4915-9B56-2A3666C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C0B-7EBD-4C9B-8E64-04236AA3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57BA-0EFA-47E2-B258-91146B50B5B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5B0D-DB91-499A-B643-12DC7F6D4B2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crets of VDct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placing dictation components in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7416-BB35-4057-9947-DEE4D84FC8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 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mplements formatting and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ed on concept of “Hidden Edit Control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Dct contains a copy of the user’s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types, changes made to user’s document are copied into VDct’s copy of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dictates, VDct inserts dictated text into its copy and then tells user’s document about the chang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 exposes VDct obje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e windict.py (sample code) and natlink.txt (doc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F1D-3078-4DC9-91BE-4A9F6644D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Ty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typ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xt changes copied to VDct’s copy of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Tex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updates Select XYZ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2AB-889A-4A6A-817D-BCDC9039FD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Dicta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dictates a phr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gets grammar callback with resul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formats text and inserts it in its co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calls back to edit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ChangeCallba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es back information about the text ch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cont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7D0-0213-437F-8000-3966FE8C3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Replace VD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ign a module which talks directly to NatSpeak Server (using NatLink or in C++ directl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 desired subset of VDct compon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 to application can be anyth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 recommend using the hidden edit control model and mimicking the same VDct data f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need to modify NatSpeak, your applications simply use your replacement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editor, Microsoft Word, etc. will continue to use built-in version of VD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6D5-01BB-48E9-9E51-83AF7A8514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ic formatt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acing, capitalization, etc. from punctu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vanced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es, times, numbers, currency, phone numbers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con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” comma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A4A-1715-4CC2-B214-6DD1EB2C1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rrection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That”, “Spell That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oice list fo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lling grammar during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aptation afte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sume With”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ayback of  recorded spee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FE0-D44D-4907-9EF5-31A44D5A9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VDct 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10F-AC03-479C-B49F-CAC7EB056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Di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gotResultsObjec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ed when recognition occu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d recognized words and ResOb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ctivate the grammar whenever the target application has the focu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beginCallback() to test for active wind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 activate() with window hand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 not make your dictation grammar global, it will conflict with NaturalTex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8AD-64C9-4361-9008-FEFC09F417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Sampl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Di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tate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, self.state = nsformat.formatWords(words, self.stat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Formatted: &lt;%s&gt;' % 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DictGramBase for dicta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816280" cy="580680"/>
          </a:xfrm>
          <a:prstGeom prst="borderCallout1">
            <a:avLst>
              <a:gd name="adj1" fmla="val 18750"/>
              <a:gd name="adj2" fmla="val -8333"/>
              <a:gd name="adj3" fmla="val 16726"/>
              <a:gd name="adj4" fmla="val -9271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call load(), there is no text form of the gramm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632040"/>
            <a:ext cx="2663640" cy="824040"/>
          </a:xfrm>
          <a:prstGeom prst="borderCallout1">
            <a:avLst>
              <a:gd name="adj1" fmla="val 18750"/>
              <a:gd name="adj2" fmla="val -8333"/>
              <a:gd name="adj3" fmla="val 76328"/>
              <a:gd name="adj4" fmla="val -5583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like a command grammar except there is no rule n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715000"/>
            <a:ext cx="3047760" cy="824040"/>
          </a:xfrm>
          <a:prstGeom prst="borderCallout1">
            <a:avLst>
              <a:gd name="adj1" fmla="val 18750"/>
              <a:gd name="adj2" fmla="val -8333"/>
              <a:gd name="adj3" fmla="val -83361"/>
              <a:gd name="adj4" fmla="val -3957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is called with the list of recognized words; gotResultObject() also work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8BF-65B1-4797-A0B2-3EFA170B0A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Hyphothe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ile speaking, current best guess at the recognized text is available (“hyphothesis”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a hypothesisCall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ssed a list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at the words and display during reco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ther in the application window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in a pop-up window like with NatSpea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call back into NatLink from hyphothesis callback (wordInfo is not availabl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ing hypothesis displayed makes recognizer seem more respons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169-8821-4DAF-A93D-4C6176852D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was given to the Voice Coder’s group on June 25, 200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© Copyright 2000 by Joel Gou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261-94D4-4B38-AD8C-B09D04E17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word has an associated 32-bit wordInf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st of those bits control basic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format text, use a state mach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 is current capitalization/spacing st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put is 32-bit wordInfo value for each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NatSpeak never tests the spelling of the wo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 is modified state, formatted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s are defined in natlinkutils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VocEdit to look at flags for existing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ADD-184E-4CB0-9152-B6AC9613FB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 Mach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w distributing a new file: nsformat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rt of next NatLink rele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sformat.py contains a simplified formatting state machine for NatSpea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ndles capitalization and spacing for normal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,state = formatWords(words,sta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an initial state of None for empty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call formatWord for every word so you can record the formatting state after every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CAA-F6DA-46D7-A341-F239B9A564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formatting state after every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the insertion point is moved, you can use the formatting state for that position in the docu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necessary, compute the formatting state by looking backwa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normal word: 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 state =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 of document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no_space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period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two_spaces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B78-FA66-4072-A07E-CDAE151FEA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Word Fla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0 – set for all user added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causes word to be marked in Voc Edi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3 – set to prevent deletion of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 this off to allow word to be dele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delete too many words marked as do-not-dele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29 – set if word added from Voc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uses word to be added with a lower LM sco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flag when adding hundreds of words to avoid screwing up the language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155-D0A1-4444-BCE8-DE1AE51D9C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vanced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uses a chart parser to format dates, time, numbers, currency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e hundred dollars and two cents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$100.0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driven from a set of rewrite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indicated sequence of tokens is seen in hidden edit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ute a block of replacement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advanced formatting in your own VDct, you will have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1) Code a simple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2) Develop your own set of rewrite r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318-3ED8-4449-9B6A-4541E54881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ntex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tion is more accurate if you tell recognizer the words just before curs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DictGramBase.setContext() at recog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 in text just before insertion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lude at least two words if poss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s after insertion point are not u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t needed if cursor is not changed after dic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remembers the last result as the context for the next recogn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EA5-B827-4AB2-BE00-739081214E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has special grammar type to implement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Sele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creating the grammar, pass in a list of verb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uses “Select”, “Correct”, “Insert After”,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recog start, make sure grammar contains a copy of the text currently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.setSelectTex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parses text into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2E3-B840-4EA2-831E-C2844DAEA3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Selection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 gotResultsObject() gets called when user says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include the verb (select or correc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also include the range of text sel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automatically handles “Select XYZ through ABC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does not always find closest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choice list to find alternati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k the alternative which is closest to curs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203-8D25-4AA3-8844-E7C15DE3E4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Sele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 ['Select', 'Correct'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SelectText(textBuffer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, startPos, endPo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Print the results of the Select recogn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textBuff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( output[:startPos] + '&lt;' +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[startPos:endPos] + '&gt;' + output[endPos: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Top choice =',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42900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-53314"/>
              <a:gd name="adj4" fmla="val -5166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l the selection grammar the block of text to select withi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electGramBase for selec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55888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32527"/>
              <a:gd name="adj4" fmla="val -5631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load() and pass in a list of verb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648320"/>
            <a:ext cx="2206800" cy="824040"/>
          </a:xfrm>
          <a:prstGeom prst="borderCallout1">
            <a:avLst>
              <a:gd name="adj1" fmla="val 18750"/>
              <a:gd name="adj2" fmla="val -8333"/>
              <a:gd name="adj3" fmla="val 13842"/>
              <a:gd name="adj4" fmla="val -3826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returns the range of one possible selec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0AC-4F81-44F4-B605-B8BB4347EB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need to search the choice list for all blocks of text which match the se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 = [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ry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bestScore = resObj.getWordInfo(0)[0][2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i in range(100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ordInfo = resObj.getWordInfo(i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ordInfo[0][2] != bestScor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.append(resObj.getSelectInfo(self.gramObj, i)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except natlink.OutOfRang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048120"/>
            <a:ext cx="2282760" cy="824040"/>
          </a:xfrm>
          <a:prstGeom prst="borderCallout1">
            <a:avLst>
              <a:gd name="adj1" fmla="val 18750"/>
              <a:gd name="adj2" fmla="val -8333"/>
              <a:gd name="adj3" fmla="val 71833"/>
              <a:gd name="adj4" fmla="val -4220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re is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ement of wordInfo tuple for first word in res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562720"/>
            <a:ext cx="3124080" cy="824040"/>
          </a:xfrm>
          <a:prstGeom prst="borderCallout1">
            <a:avLst>
              <a:gd name="adj1" fmla="val 18750"/>
              <a:gd name="adj2" fmla="val -8333"/>
              <a:gd name="adj3" fmla="val -89736"/>
              <a:gd name="adj4" fmla="val -48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up the selection range for every entry in the choice list with the same sco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8D7-6F8F-42DD-8E87-E7D00EA65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explains how to replace VDct, the dictation subsystem in Dragon NaturallySpeaking, with your 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d around NatLink, the Python Macro System for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414-79F3-4C0C-808E-17ADC9147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create command grammars inside of your VDct for correction and format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an instance of Grammar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ss a set of rules to GrammarBase.load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 processing is the same as when you use NatLink as a macro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command grammars f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, Correct That, Spell That,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DD1-309C-429B-9A6F-0369525FAF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do, Redo, Scratch T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lement your own undo/redo st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gorithms are very easy and well underst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ratch That” is like an un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does nothing if last change was not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ple Scratch That’s do multiple un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, undo should undo Scratch Th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are free to define your own behavi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9D0-5A96-440D-A4A3-EE41E7521D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rec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will have to implement your own correction commands and mechanis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command grammar for correction cm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1&gt; = correct t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2&gt; = spell that [ &lt;dgnletters&gt; ]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your own user interface fo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at you know what text is select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010-31DE-4C10-AD57-C57B484D07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reating a Choice Lis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can be queried for choice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s(N) for Nth choi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are correcting only part of an utterance, you have to extract choices from lis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Info() returns wor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ok up word start and end time for word/phrase being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other choices to find word/phrases which similar start and en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4D4-229B-458C-BCEF-A29F166308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up Diction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ce the user start typing, you will have to get words from a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t use Dragon’s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iterator function has not been expo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nd a list of words from somewhere el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ild a dictionary which can be queried by prefi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prons, once you have a word list NatSpeak can look up the prons in its own dictio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607-BC43-4AEE-A77A-964EEE549A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apting after Corre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fter a real correction, perform adapt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pute the words which match the whole utterance (only a part may have been correcte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ResObj.correction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gnizer may reject is correction is too different from utterance to use for train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urther action is required in either c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1D1-6122-4749-B4C6-3A1F7075A9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me With” 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ume With &lt;word&gt; &lt;more text&gt;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&lt;word&gt; was dictated recent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laces everything after &lt;word&gt; with &lt;more text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this command, you will have to implement it with a command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rule&gt; = resume with {words} &lt;dgndictation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list “words” with last N words dicta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grammar is recognized, modify the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043-F29C-4FD6-AE41-2C20700406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Play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get the wave for any resul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ave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ave is 11.025Khz, 16 bit, mo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layback using Windows multimedia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will have to find or write your own code for th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play part of an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ex into the wave using the word sta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resObj.getWordInfo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17E-E3AE-4B5E-8AEA-72C6CBE27F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ation Hi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44A-D6C5-4A2B-A0D4-5D5D4CEE89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rack of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many of the VDct algorithms you need to know what result object corresponds to a block of text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: correction and playba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result objects passed to gotResultsObject() for the 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a link between the copy of the user’s text and the result object for that dictated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CB3-2D37-4C55-A81F-C57A7269B2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AB7-D807-42A4-924F-47C3E3446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ndling Text Modific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happens if user types or overspeaks a portion of an uttera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version 1 and 2 simply discarded the result object for the modifie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prevented adaptation and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dern NatSpeaks try to keep track of sections of result ob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this extreme is probably not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DA0-A012-4584-BCAB-549C7C7D54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ext Synchroniz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the real text and VDct’s copy of the text synchronized at all ti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best to update VDct as soon as user changes the edit control (i.e. by typing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allows VDct to update Select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s it easier to keep text and results align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correctness, it is enough to update the contents of the hidden edit control at recognition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also best to lock out user input in the middle of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void user changes at the same time as dic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5AE-4B5C-4328-89CA-2C79AC331BB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Start Bookkee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BeginCallback() is called at start of every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zer will pause until you return from fun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uring callback, do bookkeeping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sure text is synchronized with appl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t the location of the insertion point from the app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ivate or deactivate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select grammar from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dictation con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“Resume With” word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667-8A9A-48EE-A89F-C8CA57FA1EF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xing Commands in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mand (and select) grammars are only recognized when surrounded by pau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possible to implement pause-less commands when you rewrite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your commands in some CFG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an every dictation result for a sequence of words which matches CF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, with a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ove those words from the text to be inserted  and execute the command 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88C-E419-42FB-8478-4289E58CE6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naging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dWord() adds a word to dictation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to specify the pron, NatSpeak will either lookup the pron or guess 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 sure to set the word fla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useradded for all new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topicadded if adding lots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 formatting flags as appropi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automatically adds any words which are in the user’s document if they are also in the backup diction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getWordInfo() to see if the word is in backup dic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21A-70E9-4F06-A8D6-0201997712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Calls Wh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 NatLink (or NatSpeak), you must be in a Windows message loop for receive callbac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ite a NatLink grammar file which will be loaded automatically; in this case the message loop is inside NatSpeak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 run from a Win32 GUI which includes a message loop (like DoModal() in winspch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, include a call to natlink.waitForSpeech() which enters a message box modal loop (like dictsamp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E50-4879-4512-A545-43AC48CD0E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s designed for dictating English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s behavior makes it hard to use for programm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most VDct functionality can be written outside of NatSpeak, using the Server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replacing VDct, you can chang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, correction mechanism, correction commands, selection behavior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wraps enough of Server API to make it possible to rewrite VD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26A-2EB5-4A2B-B15A-B6D9A88E483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06F4-D33A-426B-82B4-64EE0C869E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SAPI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pplication Programming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igned by Microsoft as a uniform way of supporting speech recognition in Window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is architected to mirror SAPI 4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s SAPI SR, VDct and VCmd AP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though NatSpeak contains no Microsoft c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s numerous Dragon-specific exten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6CB-37B3-4C49-94DA-73A0D3E69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PI Archite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648320"/>
            <a:ext cx="655308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205740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md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666880"/>
            <a:ext cx="236232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ct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48120"/>
            <a:ext cx="236232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Dictation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048120"/>
            <a:ext cx="205740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mmand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6553080" cy="1202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gon NaturallySpeaking “Server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36920"/>
            <a:ext cx="2130480" cy="1067400"/>
          </a:xfrm>
          <a:prstGeom prst="borderCallout1">
            <a:avLst>
              <a:gd name="adj1" fmla="val 18750"/>
              <a:gd name="adj2" fmla="val -8333"/>
              <a:gd name="adj3" fmla="val 126699"/>
              <a:gd name="adj4" fmla="val -3963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NatLink funcs talk directly to this API.  GramObj and ResObj inside her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828800"/>
            <a:ext cx="2130480" cy="824040"/>
          </a:xfrm>
          <a:prstGeom prst="borderCallout1">
            <a:avLst>
              <a:gd name="adj1" fmla="val 18750"/>
              <a:gd name="adj2" fmla="val -8333"/>
              <a:gd name="adj3" fmla="val 118513"/>
              <a:gd name="adj4" fmla="val -3650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Link exposes this API through DictObj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676520"/>
            <a:ext cx="2590920" cy="824040"/>
          </a:xfrm>
          <a:prstGeom prst="borderCallout1">
            <a:avLst>
              <a:gd name="adj1" fmla="val 18750"/>
              <a:gd name="adj2" fmla="val -8333"/>
              <a:gd name="adj3" fmla="val 143314"/>
              <a:gd name="adj4" fmla="val -5372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xposed by NatLink.  Used for Professional Edition macro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D34-32A8-4894-860C-FA5D9398E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 of Server Obj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s create grammar objec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mand (CFG) grammars, like NatLink mac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ation grammars, which return text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ion grammars, for “Select XYZ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 registers a callback function for when that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end of recognition, server creates result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s result object back to recognized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 object can be queried for choice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3AF-6022-4ADC-9BED-CAC979CA6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 exposes grammar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ramObj.load() creates grammar from bi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me function creates all 3 grammar ty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.setResultsCallback() to register a callback when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marBase is a wrapper around GramObj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GramBase for dicta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 for selec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the grammar base classes is opt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ave code to build binary form (which can be copi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s callbacks into calls of member fun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000-3147-4C6F-82E8-EABEE5008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exposes result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e to ResObj is passed to callback function (GramObj.setResultCallback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ords(N) returns recognized words for Nth choi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correction() is used to train recognizer afte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ave() returns wave for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925-FC9E-46FA-9458-B139CF175A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1:14:16Z</dcterms:modified>
  <cp:revision>37</cp:revision>
  <dc:subject/>
  <dc:title>NatLink: A Python Macro System for Dragon NaturallySpeaking</dc:title>
</cp:coreProperties>
</file>