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CB6-B011-4D1C-AFA3-4C035AD5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8D4-7120-4424-8DF9-37093D15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78B-4FB2-4396-9580-0CD8C894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338-6C55-49EE-8917-992B6FC2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3153-9058-43DA-89FA-8C07BEAA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9194-9CAB-4F7A-9D58-81A42FD1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8D22-0092-4541-9F76-EF7EBA2E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C7E3-0DB4-4633-B5EE-86CF4CC2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6D92-2C67-4AD9-8C89-1A4932E8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E6E9-616E-40C9-A5BC-BACDD22A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B677-AA00-4E38-B19D-B0997B6A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A0F-373C-492D-A093-456949C3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2068-A705-4C13-84FC-3C6F33B9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52D3-4248-4D6B-8578-4046BB5C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2268-188F-4491-8E24-9ACB6941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C49D-1411-4053-873A-C2C3911A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A81E-B24B-475D-8195-0024775C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B84-6654-4599-B0B2-960052ED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CF6-EF2F-4F50-9F32-B9C48C79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A32-C0FC-4EC1-BF4E-5B917603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DC6-A742-4D2C-99F0-41DD7CBD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BC4-F3BF-4156-BF3E-F0E5C51A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F9C-2568-469A-90F0-2DE94ADB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F2D-50CC-42EA-BB6C-33482249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6FE9-803F-4CE1-B8B3-E95033B6E3B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6E42-12EF-43F3-A7DA-530186B3A98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crets of VDct: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placing dictation components in Dragon NaturallySpeak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Joel Gould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irector of Emerging Technologies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ragon System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DD6B-8A44-4D73-86EC-812D2455E9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Dct Over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Dct implements formatting and corr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ased on concept of “Hidden Edit Control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Dct contains a copy of the user’s docu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f user types, changes made to user’s document are copied into VDct’s copy of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f user dictates, VDct inserts dictated text into its copy and then tells user’s document about the chang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Obj exposes VDct object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e windict.py (sample code) and natlink.txt (doc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28E-E3FC-4F99-B980-959842C764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Dct: Example of Typ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r typ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dit control updates its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ext changes copied to VDct’s copy of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Obj.setText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updates Select XYZ gram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6E3-C88B-4F1F-BD9B-8E7A0E0268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Dct: Example of Dicta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r dictates a phra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gets grammar callback with resul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formats text and inserts it in its co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calls back to edit contr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Obj.setChangeCallback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sses back information about the text chang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dit control updates its conten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99D-2751-4869-844F-34A32ECBA4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to Replace VD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sign a module which talks directly to NatSpeak Server (using NatLink or in C++ directly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mplement desired subset of VDct compon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terface to application can be anyth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 recommend using the hidden edit control model and mimicking the same VDct data flo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need to modify NatSpeak, your applications simply use your replacement VD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editor, Microsoft Word, etc. will continue to use built-in version of VDc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E7F-8DF0-469C-BF58-C45C78F84F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st of VDct Components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ation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asic formatting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pacing, capitalization, etc. from punctu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dvanced formatt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tes, times, numbers, currency, phone numbers, etc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ation con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ection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cratch That” comma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28D-A64F-457E-A9B0-108D9CCDC6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st of VDct Components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rrection comman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rrect That”, “Spell That”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hoice list for corr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lling grammar during corr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aptation after corr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sume With” 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layback of  recorded speec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D5A-C7B6-4D3A-898D-633C24ECAB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VDct Compone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12408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282-8CB8-411A-92DB-DA906DEAA2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Gramma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an instance of DictGramB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rapper around GramObj, defined in natlinkutils.p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fine gotResultsObject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lled when recognition occu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ed recognized words and ResObj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ctivate the grammar whenever the target application has the focu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beginCallback() to test for active windo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ll activate() with window hand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 not make your dictation grammar global, it will conflict with NaturalText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177-2A79-4B90-B632-BA71D51329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Sample C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MyGrammar(DictGram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__init__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ictGramBase.__init__(self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tate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 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Start of recognition...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not self.isActiv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moduleInfo[2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(self, word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Heard: &lt;%s&gt;' % string.join(words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, self.state = nsformat.formatWords(words, self.state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Formatted: &lt;%s&gt;' % outpu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752480"/>
            <a:ext cx="2590920" cy="580680"/>
          </a:xfrm>
          <a:prstGeom prst="borderCallout1">
            <a:avLst>
              <a:gd name="adj1" fmla="val 18750"/>
              <a:gd name="adj2" fmla="val -8333"/>
              <a:gd name="adj3" fmla="val 27259"/>
              <a:gd name="adj4" fmla="val -7450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DictGramBase for dictation grammar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743200"/>
            <a:ext cx="2816280" cy="580680"/>
          </a:xfrm>
          <a:prstGeom prst="borderCallout1">
            <a:avLst>
              <a:gd name="adj1" fmla="val 18750"/>
              <a:gd name="adj2" fmla="val -8333"/>
              <a:gd name="adj3" fmla="val 16726"/>
              <a:gd name="adj4" fmla="val -9271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 call load(), there is no text form of the gramma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632040"/>
            <a:ext cx="2663640" cy="824040"/>
          </a:xfrm>
          <a:prstGeom prst="borderCallout1">
            <a:avLst>
              <a:gd name="adj1" fmla="val 18750"/>
              <a:gd name="adj2" fmla="val -8333"/>
              <a:gd name="adj3" fmla="val 76328"/>
              <a:gd name="adj4" fmla="val -5583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e like a command grammar except there is no rule nam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5715000"/>
            <a:ext cx="3047760" cy="824040"/>
          </a:xfrm>
          <a:prstGeom prst="borderCallout1">
            <a:avLst>
              <a:gd name="adj1" fmla="val 18750"/>
              <a:gd name="adj2" fmla="val -8333"/>
              <a:gd name="adj3" fmla="val -83361"/>
              <a:gd name="adj4" fmla="val -3957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Results() is called with the list of recognized words; gotResultObject() also work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DE3-2AA8-423C-99BE-237FC73F59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cognition Hyphothesi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ile speaking, current best guess at the recognized text is available (“hyphothesis”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fine a hypothesisCall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ill be passed a list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mat the words and display during reco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ither in the application window itsel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 in a pop-up window like with NatSpea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 not call back into NatLink from hyphothesis callback (wordInfo is not availabl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eing hypothesis displayed makes recognizer seem more respons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DFD-FA61-4967-81A8-E4E5197EA1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pyright Infor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presentation was given to the Voice Coder’s group on June 25, 200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contents of this presentation are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© Copyright 2000 by Joel Goul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mission is hereby given to freely distribute this presentation unmodifi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act Joel Gould for more information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oelg@alum.mit.edu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E40-7905-4B78-BA89-BF37DB8D63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sic Forma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very word has an associated 32-bit wordInf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st of those bits control basic formatt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format text, use a state mach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te is current capitalization/spacing sta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put is 32-bit wordInfo value for each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NatSpeak never tests the spelling of the wor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utput is modified state, formatted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s are defined in natlinkutils.p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VocEdit to look at flags for existing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C8D-DBF3-4725-9A26-490A6D7997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ormatting State Machi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w distributing a new file: nsformat.p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ill be part of next NatLink rele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sformat.py contains a simplified formatting state machine for NatSpea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andles capitalization and spacing for normal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us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utput,state = formatWords(words,sta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an initial state of None for empty docu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 call formatWord for every word so you can record the formatting state after every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FAD-D7AC-4CFB-A22C-F7411E6CEB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ormatting Stat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ember the formatting state after every wor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the insertion point is moved, you can use the formatting state for that position in the docum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necessary, compute the formatting state by looking backwa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fter normal word: 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matting state = 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rt of document: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lag_no_space_next, flag_active_cap_n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fter period: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lag_two_spaces_next, flag_active_cap_n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958-822A-4238-A29D-0ED481C3E2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ther Word Flag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 0 – set for all user added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s causes word to be marked in Voc Edit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 3 – set to prevent deletion of wor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urn this off to allow word to be dele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 not delete too many words marked as do-not-dele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 29 – set if word added from Voc Build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uses word to be added with a lower LM sco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this flag when adding hundreds of words to avoid screwing up the language mod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942-344A-4A0A-8C6C-A55BC09F48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dvanced Forma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’s VDct uses a chart parser to format dates, time, numbers, currency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ne hundred dollars and two cents 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$100.0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driven from a set of rewrite ru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f indicated sequence of tokens is seen in hidden edit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pute a block of replacement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you want advanced formatting in your own VDct, you will have t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1) Code a simple chart pars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2) Develop your own set of rewrite ru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2AC-A4B0-41D6-BE9B-4731720110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Contex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cognition is more accurate if you tell recognizer the words just before curs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ll DictGramBase.setContext() at recog star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 in text just before insertion poi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clude at least two words if poss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ords after insertion point are not us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t needed if cursor is not changed after dic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automatically remembers the last result as the context for the next recogn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847-A78F-4226-9393-5D90C5297C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ection Gramma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 has special grammar type to implement “Select XYZ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an instance of SelectGramB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rapper around gramObj, defined in natlinkutils.p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 creating the grammar, pass in a list of verb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uses “Select”, “Correct”, “Insert After”, 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 recog start, make sure grammar contains a copy of the text currently on the scre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ectGramBase.setSelectText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automatically parses text into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80D-44F3-4654-AB47-8BEE49BA30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etting Selection 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ection grammar gotResultsObject() gets called when user says “Select XYZ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s include the verb (select or correc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s also include the range of text selec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 automatically handles “Select XYZ through ABC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 does not always find closest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arch through choice list to find alternativ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ick the alternative which is closest to curs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2C4-00D9-43CE-B0F2-9C25F626BE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ection Sample Code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MyGrammar(SelectGram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__init__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ictGramBase.__init__(self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 ['Select', 'Correct'] 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etSelectText(textBuffer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 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Start of recognition...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not self.isActiv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moduleInfo[2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(self, words, startPos, endPo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Print the results of the Select recogn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Heard: &lt;%s&gt;' % string.join(words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 = textBuff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 = ( output[:startPos] + '&lt;' +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[startPos:endPos] + '&gt;' + output[endPos:] 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Top choice =',outpu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3429000"/>
            <a:ext cx="2362320" cy="824040"/>
          </a:xfrm>
          <a:prstGeom prst="borderCallout1">
            <a:avLst>
              <a:gd name="adj1" fmla="val 18750"/>
              <a:gd name="adj2" fmla="val -8333"/>
              <a:gd name="adj3" fmla="val -53314"/>
              <a:gd name="adj4" fmla="val -5166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l the selection grammar the block of text to select withi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1752480"/>
            <a:ext cx="2590920" cy="580680"/>
          </a:xfrm>
          <a:prstGeom prst="borderCallout1">
            <a:avLst>
              <a:gd name="adj1" fmla="val 18750"/>
              <a:gd name="adj2" fmla="val -8333"/>
              <a:gd name="adj3" fmla="val 27259"/>
              <a:gd name="adj4" fmla="val -7450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electGramBase for selection grammar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2558880"/>
            <a:ext cx="2210040" cy="580680"/>
          </a:xfrm>
          <a:prstGeom prst="borderCallout1">
            <a:avLst>
              <a:gd name="adj1" fmla="val 18750"/>
              <a:gd name="adj2" fmla="val -8333"/>
              <a:gd name="adj3" fmla="val 32527"/>
              <a:gd name="adj4" fmla="val -5631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load() and pass in a list of verb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648320"/>
            <a:ext cx="2206800" cy="824040"/>
          </a:xfrm>
          <a:prstGeom prst="borderCallout1">
            <a:avLst>
              <a:gd name="adj1" fmla="val 18750"/>
              <a:gd name="adj2" fmla="val -8333"/>
              <a:gd name="adj3" fmla="val 13842"/>
              <a:gd name="adj4" fmla="val -3826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Results() returns the range of one possible selec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7CB-9B1E-4E85-A4DB-BEB23F463C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ection Sample Code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need to search the choice list for all blocks of text which match the sel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gotResultsObject(self,recogType,resObj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ranges = [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try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bestScore = resObj.getWordInfo(0)[0][2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for i in range(100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wordInfo = resObj.getWordInfo(i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if wordInfo[0][2] != bestScor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ranges.append(resObj.getSelectInfo(self.gramObj, i)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except natlink.OutOfRang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3048120"/>
            <a:ext cx="2282760" cy="824040"/>
          </a:xfrm>
          <a:prstGeom prst="borderCallout1">
            <a:avLst>
              <a:gd name="adj1" fmla="val 18750"/>
              <a:gd name="adj2" fmla="val -8333"/>
              <a:gd name="adj3" fmla="val 71833"/>
              <a:gd name="adj4" fmla="val -4220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re is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ement of wordInfo tuple for first word in resul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562720"/>
            <a:ext cx="3124080" cy="824040"/>
          </a:xfrm>
          <a:prstGeom prst="borderCallout1">
            <a:avLst>
              <a:gd name="adj1" fmla="val 18750"/>
              <a:gd name="adj2" fmla="val -8333"/>
              <a:gd name="adj3" fmla="val -89736"/>
              <a:gd name="adj4" fmla="val -4882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up the selection range for every entry in the choice list with the same scor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A7D-EFE7-4EDC-97AC-3DC4466588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presentation explains how to replace VDct, the dictation subsystem in Dragon NaturallySpeaking, with your ow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ed around NatLink, the Python Macro System for 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BF9-6479-49FB-ADC8-E22FE83349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Comman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create command grammars inside of your VDct for correction and formatt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eate an instance of GrammarBa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ss a set of rules to GrammarBase.load(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mmand processing is the same as when you use NatLink as a macro syst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command grammars for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cratch That, Correct That, Spell That, 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8F1-BA61-4EB9-BADB-3018415B80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ndo, Redo, Scratch Th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mplement your own undo/redo stac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gorithms are very easy and well understoo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cratch That” is like an un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does nothing if last change was not speech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ltiple Scratch That’s do multiple un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, undo should undo Scratch Th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are free to define your own behavi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99D-3C18-454A-958D-DC6A0D79FF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rection Comman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will have to implement your own correction commands and mechanis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command grammar for correction cm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cmd1&gt; = correct th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cmd2&gt; = spell that [ &lt;dgnletters&gt; ]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your own user interface for corr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ember that you know what text is select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28C-C277-42FC-8400-33D797DA9C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reating a Choice Lis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 can be queried for choice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Obj.getWords(N) for Nth choi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you are correcting only part of an utterance, you have to extract choices from list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Obj.getWordInfo() returns word tim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ok up word start and end time for word/phrase being correc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arch through other choices to find word/phrases which similar start and end tim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1DB-9497-4180-95C6-0877BF579F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ckup Dictiona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nce the user start typing, you will have to get words from a word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not use Dragon’s word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iterator function has not been expos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nd a list of words from somewhere el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uild a dictionary which can be queried by prefi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You do not need prons, once you have a word list NatSpeak can look up the prons in its own dictiona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199-78EB-416C-9427-EF05970BE0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dapting after Correc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fter a real correction, perform adapt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mpute the words which match the whole utterance (only a part may have been corrected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ll ResObj.correction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cognizer may reject is correction is too different from utterance to use for train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further action is required in either c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DFF-7499-4348-8159-88A413FACF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me With” Comman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ume With &lt;word&gt; &lt;more text&gt;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here &lt;word&gt; was dictated recentl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places everything after &lt;word&gt; with &lt;more text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you want this command, you will have to implement it with a command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rule&gt; = resume with {words} &lt;dgndictation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t list “words” with last N words dicta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 grammar is recognized, modify the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530-E1A4-4715-8BEE-44C40BE08E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sing Playbac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get the wave for any resul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Obj.getWave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ave is 11.025Khz, 16 bit, mo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layback using Windows multimedia API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You will have to find or write your own code for th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play part of an utteran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dex into the wave using the word star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resObj.getWordInfo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B38-9FE3-44AB-A589-62666513E5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ation Hi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12408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DD9-4D00-460B-8DA9-968D13941C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eeping Track of 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 many of the VDct algorithms you need to know what result object corresponds to a block of text on the scre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 example: correction and playba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ember the result objects passed to gotResultsObject() for the dictation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eep a link between the copy of the user’s text and the result object for that dictated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C457-2802-4F80-A898-1070D8FDC5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censing Restri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requires that you have a legally licensed copy of 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use NatLink you must also agree to the license agreement for the NatSpeak toolk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on Natlink will require the NatSpeak toolki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NatSpeak toolkit is a free download from http://www.dragonsys.co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A8C-96EE-4FAB-B09A-7A1F18AACB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ndling Text Modific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 happens if user types or overspeaks a portion of an utteranc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version 1 and 2 simply discarded the result object for the modified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prevented adaptation and play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odern NatSpeaks try to keep track of sections of result ob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this extreme is probably not necess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AEB-F7D9-4A92-BD01-8BF625B107D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eeping Text Synchronize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eep the real text and VDct’s copy of the text synchronized at all tim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best to update VDct as soon as user changes the edit control (i.e. by typing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s allows VDct to update Select gramm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s it easier to keep text and results align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 correctness, it is enough to update the contents of the hidden edit control at recognition star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also best to lock out user input in the middle of recogn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 avoid user changes at the same time as dict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B55-59D6-4331-A468-81A87B1739A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cognition Start Bookkeep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BeginCallback() is called at start of every recogn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cognizer will pause until you return from fun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uring callback, do bookkeeping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 sure text is synchronized with applic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et the location of the insertion point from the app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ctivate or deactivate gramma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pdate select grammar from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pdate dictation con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pdate “Resume With” word lis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2BD-1258-4DFA-B186-B3963C4475C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ixing Commands in Dic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mmand (and select) grammars are only recognized when surrounded by paus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possible to implement pause-less commands when you rewrite VD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rite your commands in some CFG form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can every dictation result for a sequence of words which matches CF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 example, with a chart pars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ove those words from the text to be inserted  and execute the command a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41B-7F34-472F-BC2D-E90480C61B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anaging W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ddWord() adds a word to dictation stat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You do not need to specify the pron, NatSpeak will either lookup the pron or guess i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e sure to set the word flag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gnwordflag_useradded for all new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gnwordflag_topicadded if adding lots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ther formatting flags as appropia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’s VDct automatically adds any words which are in the user’s document if they are also in the backup diction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getWordInfo() to see if the word is in backup dict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B9D-E3F5-46F4-BCBF-0F4080E1A3C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o Calls Who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use NatLink (or NatSpeak), you must be in a Windows message loop for receive callback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rite a NatLink grammar file which will be loaded automatically; in this case the message loop is inside NatSpeak itsel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e run from a Win32 GUI which includes a message loop (like DoModal() in winspch.py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, include a call to natlink.waitForSpeech() which enters a message box modal loop (like dictsamp.py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6FC-6217-4E16-8B33-2161A7A9CEE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Dct is designed for dictating English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s behavior makes it hard to use for programm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most VDct functionality can be written outside of NatSpeak, using the Server API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y replacing VDct, you can chang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matting, correction mechanism, correction commands, selection behavior, etc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 wraps enough of Server API to make it possible to rewrite VDct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396-AE72-402E-82E0-A1EC821BE6A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l Do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Microphone Off”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2CA0-B95F-492B-B3B1-217C82EC40D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SAPI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ech Application Programming Interfa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signed by Microsoft as a uniform way of supporting speech recognition in Window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is architected to mirror SAPI 4.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mplements SAPI SR, VDct and VCmd AP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though NatSpeak contains no Microsoft co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cludes numerous Dragon-specific extens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769-5E27-4F9A-B484-D623559CF8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PI Architectu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648320"/>
            <a:ext cx="6553080" cy="368280"/>
          </a:xfrm>
          <a:prstGeom prst="rect">
            <a:avLst/>
          </a:prstGeom>
          <a:solidFill>
            <a:srgbClr val="ff9900"/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” AP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666880"/>
            <a:ext cx="2057400" cy="368280"/>
          </a:xfrm>
          <a:prstGeom prst="rect">
            <a:avLst/>
          </a:prstGeom>
          <a:solidFill>
            <a:srgbClr val="ff9900"/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md” AP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666880"/>
            <a:ext cx="2362320" cy="368280"/>
          </a:xfrm>
          <a:prstGeom prst="rect">
            <a:avLst/>
          </a:prstGeom>
          <a:solidFill>
            <a:srgbClr val="ff9900"/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ct” AP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3048120"/>
            <a:ext cx="2362320" cy="1477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Dictation Suppor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048120"/>
            <a:ext cx="2057400" cy="1477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Command Suppor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6553080" cy="1202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gon NaturallySpeaking “Server”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436920"/>
            <a:ext cx="2130480" cy="1067400"/>
          </a:xfrm>
          <a:prstGeom prst="borderCallout1">
            <a:avLst>
              <a:gd name="adj1" fmla="val 18750"/>
              <a:gd name="adj2" fmla="val -8333"/>
              <a:gd name="adj3" fmla="val 126699"/>
              <a:gd name="adj4" fmla="val -3963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NatLink funcs talk directly to this API.  GramObj and ResObj inside her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1828800"/>
            <a:ext cx="2130480" cy="824040"/>
          </a:xfrm>
          <a:prstGeom prst="borderCallout1">
            <a:avLst>
              <a:gd name="adj1" fmla="val 18750"/>
              <a:gd name="adj2" fmla="val -8333"/>
              <a:gd name="adj3" fmla="val 118513"/>
              <a:gd name="adj4" fmla="val -3650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Link exposes this API through DictObj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1676520"/>
            <a:ext cx="2590920" cy="824040"/>
          </a:xfrm>
          <a:prstGeom prst="borderCallout1">
            <a:avLst>
              <a:gd name="adj1" fmla="val 18750"/>
              <a:gd name="adj2" fmla="val -8333"/>
              <a:gd name="adj3" fmla="val 143314"/>
              <a:gd name="adj4" fmla="val -5372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exposed by NatLink.  Used for Professional Edition macro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886-10EA-47D0-913F-2538A396FF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verview of Server Objec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lients create grammar objec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mand (CFG) grammars, like NatLink macr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ctation grammars, which return text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ection grammars, for “Select XYZ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lient registers a callback function for when that grammar is recogniz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 end of recognition, server creates result obje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es result object back to recognized gramm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 object can be queried for choice lis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5C6-176A-4FD4-8370-62B6535BE9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nterface to Server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mObj exposes grammar objects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ramObj.load() creates grammar from bina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ame function creates all 3 grammar typ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mObj.setResultsCallback() to register a callback when grammar is recogniz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mmarBase is a wrapper around GramObj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ctGramBase for dictation gramma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ectGramBase for selection gramma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ing the grammar base classes is option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ave code to build binary form (which can be copied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urns callbacks into calls of member funct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2A3-0D5B-404E-8B47-AE37A1E842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nterface to Server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 exposes result objects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ference to ResObj is passed to callback function (GramObj.setResultCallback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.getWords(N) returns recognized words for Nth choi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.correction() is used to train recognizer after corr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.getWave() returns wave for play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065-A154-42D6-A5DD-D257797DDA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2:00:21Z</dcterms:created>
  <dc:creator>Preferred Customer</dc:creator>
  <dc:description/>
  <dc:language>en-US</dc:language>
  <cp:lastModifiedBy>Joel Gould</cp:lastModifiedBy>
  <cp:lastPrinted>1999-11-09T19:02:25Z</cp:lastPrinted>
  <dcterms:modified xsi:type="dcterms:W3CDTF">2000-06-25T11:14:16Z</dcterms:modified>
  <cp:revision>37</cp:revision>
  <dc:subject/>
  <dc:title>NatLink: A Python Macro System for Dragon NaturallySpeaking</dc:title>
</cp:coreProperties>
</file>