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4FD-57E6-4DC3-BEFA-7504BBF9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7EF8-9D0E-4B70-BD2F-7AAC30A5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0923-E887-477F-B6A4-CA04E6F1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C61-FB23-44A9-91D1-7BEA6A3E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C7D4-3D50-45F5-8D9F-E88B3F7C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20BC-0BFD-4A18-9427-FE5C4B87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B0D3-1FC6-4FCD-B7BE-774BCB31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0005-AF18-441A-A5F7-F6F426E2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295B-3312-4467-B8DD-373B5F43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BD7A-E64F-4D1B-8EAE-63EC9FEC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1AB0-20D4-4A4E-B353-3A1603E4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E0E-88BB-4429-B23A-8217AE06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701B-E279-4163-ADC8-91A09397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7EC0-67F5-470E-B67A-DEDA24EC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3C4A-6627-4AC1-B05E-C1B8B9D0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B562-AF04-4DFA-822A-3A4D3FCE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0E87-F2A4-4F57-A8B5-73649871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ACC-93E3-4DAE-A18E-D5B18E6F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5FD-FBDA-42F3-9864-1BDADA90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1A4-3EA2-48A1-9374-C0CBCCE3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EFA-DF8F-47CE-AF30-C506AB54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4C9-3594-4FD8-9530-29FE1679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8C4-DF7F-4A73-9730-1A6EFDE2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E512-5909-4D64-874D-99A5AB11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252E-7043-4C17-9302-BA206A43298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C055-D64E-4F56-851A-5942C407837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: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 Python Macro System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for Dragon NaturallySpeak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Joel Gould</a:t>
            </a:r>
            <a:br>
              <a:rPr sz="3200"/>
            </a:b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Director of Emerging Technologies</a:t>
            </a:r>
            <a:br>
              <a:rPr sz="3200"/>
            </a:b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Dragon Systems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4E81-2B09-4D89-9AFB-06446C671A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5B5-9030-4B74-8F85-B6A4F1755D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you Need to Instal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ragon NaturallySpeak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ny edition, version 3.0 or bett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ython 1.5.2 for Windows: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y152.exe from http://www.python.org/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do not need to install Tcl/T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: natlink.zip from 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ttp://www.synapseadaptive.com/joel/default.ht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in32 extensions are optional: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n32all.exe from http://www.python.org/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A58-49AE-42E2-8A9A-551CD6B6D7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tting up NatLin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stall NatSpeak and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nzip natlink.zip into c:\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n \NatLink\MacroSystem\EnableNL.ex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sets the necessary registry variab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also turns NatLink on or off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run sample macros, copy macro fi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rom: \NatLink\SampleMacr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: \NatLink\MacroSyste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239-F3CB-453E-BA47-61F7048FDD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ow to Create Macro Fi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cro files are Python source fi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Wordpad or any other text edit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ave files as text with .py extens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lobal files should be named _xxx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pp-specific files should be named with the application name (ex: wordpad_xxx.py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py files to \NatLink\MacroSyste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r to \NatSpeak\Users\username\Curren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1F7-BEC6-4A83-A1FB-F8DDD165F0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ample Example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le _sample1.py contains one comman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ay “demo sample one” and it types: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eard macro “sample one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824-7CD8-459C-888F-92BE307E78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ource Code for _sample1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mport natlink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from natlinkutils import *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&lt;start&gt; exported = demo sample one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natlink.playString('Heard macro "sample one"{enter}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thisGrammar = ThisGrammar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thisGrammar.initialize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unload(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lobal thisGramma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thisGrammar: thisGrammar.unload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thisGrammar = Non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1828800"/>
            <a:ext cx="2210040" cy="824040"/>
          </a:xfrm>
          <a:prstGeom prst="borderCallout1">
            <a:avLst>
              <a:gd name="adj1" fmla="val 18750"/>
              <a:gd name="adj2" fmla="val -8333"/>
              <a:gd name="adj3" fmla="val 143185"/>
              <a:gd name="adj4" fmla="val -4661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he grammar.  You can say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demo sample one”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4419720"/>
            <a:ext cx="2209680" cy="824040"/>
          </a:xfrm>
          <a:prstGeom prst="borderCallout1">
            <a:avLst>
              <a:gd name="adj1" fmla="val 18750"/>
              <a:gd name="adj2" fmla="val -8333"/>
              <a:gd name="adj3" fmla="val -66023"/>
              <a:gd name="adj4" fmla="val -47759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he action.  We type text into the active window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5605560"/>
            <a:ext cx="2362320" cy="580680"/>
          </a:xfrm>
          <a:prstGeom prst="borderCallout1">
            <a:avLst>
              <a:gd name="adj1" fmla="val 18750"/>
              <a:gd name="adj2" fmla="val -8333"/>
              <a:gd name="adj3" fmla="val -28064"/>
              <a:gd name="adj4" fmla="val -4179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of the rest of this file is boiler plate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4114800"/>
            <a:ext cx="0" cy="21337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BC9-FA71-4C98-A8BF-504C639E7C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ample Example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dd a second command with alternativ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ype (into application) the command and alternative which was recogniz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will tell you which rule was recognized by calling a named fun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otResults_firstRule for &lt;firstRule&gt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otResults_secondRule for &lt;secondRule&gt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0F7-5B0D-4DAE-B243-13E76A9576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tract from _sample2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&lt;firstRule&gt; exported = demo sample two [ help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&lt;secondRule&gt; exported = demo sample tw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( red | blue | green | purple | black | white | yellow |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      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orange | magenta | cyan | gray 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firstRule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natlink.playString('Say "demo sample two {ctrl+i}color{ctrl+i}"{enter}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secondRule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natlink.playString('The color is "%s" {enter}'%words[3]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1828800"/>
            <a:ext cx="2210040" cy="580680"/>
          </a:xfrm>
          <a:prstGeom prst="borderCallout1">
            <a:avLst>
              <a:gd name="adj1" fmla="val 18750"/>
              <a:gd name="adj2" fmla="val -8333"/>
              <a:gd name="adj3" fmla="val 143615"/>
              <a:gd name="adj4" fmla="val -4661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he grammar.  It has two rules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3471840"/>
            <a:ext cx="2209680" cy="580680"/>
          </a:xfrm>
          <a:prstGeom prst="borderCallout1">
            <a:avLst>
              <a:gd name="adj1" fmla="val 18750"/>
              <a:gd name="adj2" fmla="val -8333"/>
              <a:gd name="adj3" fmla="val 121125"/>
              <a:gd name="adj4" fmla="val -1579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e do when “firstRule” is heard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5389560"/>
            <a:ext cx="3048120" cy="1067400"/>
          </a:xfrm>
          <a:prstGeom prst="borderCallout1">
            <a:avLst>
              <a:gd name="adj1" fmla="val 18750"/>
              <a:gd name="adj2" fmla="val -8333"/>
              <a:gd name="adj3" fmla="val -30476"/>
              <a:gd name="adj4" fmla="val -28069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e do when “secondRule” is heard.  Words[3] is the 4th word in the result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0C0-358A-4DE5-82D3-4114A6885B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6E21-E776-4035-9FFF-2EDF96F3B1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rings and Thing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tring constants can use either single quote or double quot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'This is a string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This string has a single quote (') inside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triple quotes for multiple line str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line 1 of stri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line 2 of string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lus will concatenate two str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'one'+'two'='onetwo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cent sign allows sprintf-like func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'I heard %d' % 13 = 'I heard 13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'the %s costs $%1.2f' % ('book',5) = 'the book costs $5.00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783-F64A-45C4-A2DE-7212B333EA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pyright Inform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is version 1.1 of this present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hanges: look in corner of slides for </a:t>
            </a: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V 1.1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indic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version of the presentation was given to the Voice Coder’s group on June 25, 200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contents of this presentation are 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© Copyright 1999-2000 by Joel Goul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ermission is hereby given to freely distribute this presentation unmodifi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tact Joel Gould for more information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joelg@alum.mit.edu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48F-88A6-43C6-868B-7C4BC5F5FD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mments and Block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mments begin with pound sign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# Comment from here until end of line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'hello' # comment starts at pound sign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locks are delimited by indentation, the line which introduces a block ends in a colon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if a==1 and b==2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a is one'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b is two'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else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either a is not one or b is not two'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x = 0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while x &lt; 10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x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x = x + 1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'all done'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472-5348-4C0B-891C-18792DCAD0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sts and Loop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ists are like arrays; they are sets of th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s brackets when defining a list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myList = [1,2,3]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another = ['one',2,myList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brackets to get or change a list element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myList[1]    # prints 2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another[2]   # prints [1,2,3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“for” statement can iterate over a list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total = 0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for x in myList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total = total + x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x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# prints 6 (1+2+3)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8D2B-15D2-4EAD-BFFC-3BF69E2FA2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efining and Calling Fun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the “def” statement to define a fun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ist the arguments in parens after the name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def globalFunction(x,y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total = x + y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the total is',total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 of a function call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globalFunction(4,7)  # this prints "the total is 11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turn statement is optional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def addNumbers(x,y)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 x + y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addNumbers(4,7)    # this prints "11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53F-65F1-4898-8069-2EB14C88D4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odules and Class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ll functions inside other modules by using the module name before the function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import string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string.upper('word'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fine classes with “class” statement and class functions with “def” statement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class MyClass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localFunction(self,x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value is x'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object = MyClass          # create instance of MyClass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object.localFunction(10)  # prints "value is 10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E32-7744-428F-9DAC-45F95F37C5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lf and Class Inherita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lf” param passed to class functions points back to that instance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class ParentClass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sampleFunc(self,value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variable = value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parentFunc(self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sampleFunc(10)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 self.variable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# returns 1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also use “self” to reference functions in parent classes (inherence)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class ChildClass(ParentClass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childFunc(self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self.parentFunc()     # prints "10"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self.variable         # also prints "10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AB9-BDA6-4C91-8CA4-2B6CC0A674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D76-D5EC-4344-A593-5DFF93BE45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roduction to Gramma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grammars are based on SAPI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s include: rules, lists and wor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stinguished by how they are spell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, {list}, word, "word with space"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pecification is a set of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rule is combination of references to words, lists and other rules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&lt;myRule&gt; = one &lt;subRule&gt; and {number} ;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&lt;subRule&gt; = hundred | thousand 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468-1EBA-4B23-9056-F5DFCC5DB4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pecifying Ru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compiles a set of rules when a grammar is loaded</a:t>
            </a:r>
            <a:br>
              <a:rPr sz="3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this compiles and load rul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les should be defined in a Python string</a:t>
            </a:r>
            <a:br>
              <a:rPr sz="3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gramSpec = "&lt;myRule&gt; = one two three;"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gramSpec2 = """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One&gt; = go to sleep;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Two&gt; = wake up;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fine rules as rule-name, equal-sign, expression; end rule with a semicol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808-8D99-49AE-BA22-6B6DD6D38E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asic Rule 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ds in a sequence must spoken in ord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two thre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ust say “one two thre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brackets for options expres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[ two ] thre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say “one two three” or “one thre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ertical bar for alternatives, parens to grou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( two | three four ) fiv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say “one two five” or “one three four fiv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9EF9-C793-4FE0-A9CD-F36D70DCD8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sted Rules and Repea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les can refer to other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&lt;subRule&gt; four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subRule&gt; = two | thre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say “one two four” or “one three four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plus sign for repeats, one or more tim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( two )+ thre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say “one two three”, “one two two three”, “one two two two three”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EAC-58F6-414C-A0AB-AB1AEF62D3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FA2-DF4A-463B-B73E-A926020FFD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ported and Imported Ru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only activate “exported”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myRule&gt; exported = one two thre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ported rules can also be used by other grammars; define external rule as impor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myRule&gt; imported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number &lt;myRule&gt;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defines three importable rule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dgnwords&gt; = set of all dictation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dgndictation&gt; = repeated dictation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dgnletters&gt; = repeated spelling letter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D60-5EF4-4999-B847-AFF2D656FE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ealing with (Grammar) Lis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ists are sets of words defined lat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ferencing a list causes it to be cre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number {myList}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ll list with words using setList function</a:t>
            </a:r>
            <a:br>
              <a:rPr sz="3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def initialize(self):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setList('myList',['one','two','three'])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fill the list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can now say “number one”, “number two” or “number thre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CF0-DAD5-4AB8-BA05-D339CC9C5E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a Word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ds in NatSpeak and NatLink are str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ords can have embedded spac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ello”, “New York”, “:-)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 NatLink grammars, use quotes around words if the word is not just text or numbe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lists are lists of wor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r recognition, words from lists are returned just like words in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8F84-E703-4BF6-869B-F680777399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pecial Word Spellings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ds with separate spoken form are spelled with backslash:  “written\spoken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unctuation is most common examp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.\period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{\open brac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ters are spelled with two backslash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\\l”, “b\\l”, “c\\l”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58C-1C24-4832-8E56-889195660B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ammar Syntax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requires rules in binary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nary format is defined by SAPI and is documented in SAPI document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parser.py converts text to binar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le syntax is described in gramparser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also supports dictation grammars and “Select XYZ” grammars.  These are covered in another talk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D2B-E958-4750-B410-9EF2EEA4C69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F02-2DA6-44E6-AA7A-54C03104B00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etting 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 a rule is recognized, NatLink calls your function named “gotResults_xxx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re “xxx” is the name of the rul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get passed the sequential words recognized in that ru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otResults(self,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words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,fullResult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unction called for innermost rule on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sider the following exampl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B33-57CB-437E-959D-F977E1727D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tract from _sample3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mainRule&gt; exported = &lt;ruleOne&gt;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One&gt; = demo &lt;ruleTwo&gt; now please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Two&gt; = sample three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mainRule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Saw &lt;mainRule&gt; = %s{enter}' % repr(words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ruleOne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Saw &lt;ruleOne&gt; = %s{enter}' % repr(words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ruleTwo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Saw &lt;ruleTwo&gt; = %s{enter}' % repr(words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5791320"/>
            <a:ext cx="2362320" cy="580680"/>
          </a:xfrm>
          <a:prstGeom prst="borderCallout1">
            <a:avLst>
              <a:gd name="adj1" fmla="val 18750"/>
              <a:gd name="adj2" fmla="val -8333"/>
              <a:gd name="adj3" fmla="val -31907"/>
              <a:gd name="adj4" fmla="val 11403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(x)” formats “x” into a printable string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BCB-A131-4F19-93DB-E18CA861CC9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unning Demo Sample 3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 you say “demo sample 3 now please”, resulting text sent to application i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aw &lt;ruleOne&gt; = ['demo'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aw &lt;ruleTwo&gt; = ['sample', 'three'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aw &lt;ruleOne&gt; = ['now','please'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le “mainRule” has no words so gotResults_mainRule is never call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otResults_ruleOne is called twice, before and after gotResults_ruleTwo is call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ach function only sees relevant wor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024-EE31-4E3E-A01C-B043B292222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ther gotResults Callback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defined, “gotResultsInit” is called firs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defined, “gotResults” is called las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oth get passed all the words recogniz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lled functions from previous exampl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Init( ['demo','sample','three','now','please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_ruleOne( ['demo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_ruleTwo( ['sample','three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_ruleOne( ['now','please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( ['demo','sample','three','now','please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E9C-B828-494B-9C38-9BA987196DC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NaturallySpeaking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ld’s first and best large vocabulary continuous speech recognition syste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imarily designed for dictation by voi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so contains fully functional continuous command recognition (based on SAPI 4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ofessional Edition includes simple basic-like language for writing simple macr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9DD8-F972-4234-915C-CDA1A8D23F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mmon Fun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playString(keys) sends keystrok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orks just like “SendKeys” in NatSpeak Pro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clude special keystrokes in braces: “{enter}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2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setMicState(state) controls mi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re state is 'on', 'off' or 'sleeping'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.getMicState() returns current stat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2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execScript(command) runs any built-in NatSpeak scripting comman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.execScript('SendKeys "{enter}"'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62C-91AB-44F0-AE5A-8CE89CD439C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ore Common Fun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recognitionMimic(words) behaves as if passed words were “heard”</a:t>
            </a:r>
            <a:br>
              <a:rPr sz="32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 natlink.recognitionMimic(['Select','hello','there']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orks just like “HeardWord” in NatSpeak Pro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15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playEvents(list) to control m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ass in a list of windows input eve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utils.py has constants and buttonClick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15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getClipboard() returns clipboard tex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 this to get text from applic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A22-39F2-4550-8F0E-422A3A2E107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ouse Movement _sample4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&lt;start&gt; exported = demo sample four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cd3333"/>
                </a:solidFill>
                <a:latin typeface="Lucida Console"/>
              </a:rPr>
              <a:t># execute a control-left drag down 30 pixel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x,y = natlink.getCursorPos(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natlink.playEvents( [ (wm_keydown,vk_control,1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wm_lbuttondown,x,y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wm_mousemove,x,y+30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wm_lbuttonup,x,y+30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wm_keyup,vk_control,1) ] 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2666880"/>
            <a:ext cx="1981440" cy="337320"/>
          </a:xfrm>
          <a:prstGeom prst="borderCallout1">
            <a:avLst>
              <a:gd name="adj1" fmla="val 18750"/>
              <a:gd name="adj2" fmla="val -8333"/>
              <a:gd name="adj3" fmla="val 406500"/>
              <a:gd name="adj4" fmla="val -5351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s control ke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6095880"/>
            <a:ext cx="2133360" cy="337320"/>
          </a:xfrm>
          <a:prstGeom prst="borderCallout1">
            <a:avLst>
              <a:gd name="adj1" fmla="val 18750"/>
              <a:gd name="adj2" fmla="val -8333"/>
              <a:gd name="adj3" fmla="val -292643"/>
              <a:gd name="adj4" fmla="val -4463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 control ke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81680" y="3429000"/>
            <a:ext cx="1981440" cy="337320"/>
          </a:xfrm>
          <a:prstGeom prst="borderCallout1">
            <a:avLst>
              <a:gd name="adj1" fmla="val 18750"/>
              <a:gd name="adj2" fmla="val -8333"/>
              <a:gd name="adj3" fmla="val 255435"/>
              <a:gd name="adj4" fmla="val -5102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s left butt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4191120"/>
            <a:ext cx="1447920" cy="337320"/>
          </a:xfrm>
          <a:prstGeom prst="borderCallout1">
            <a:avLst>
              <a:gd name="adj1" fmla="val 18750"/>
              <a:gd name="adj2" fmla="val -8333"/>
              <a:gd name="adj3" fmla="val 103407"/>
              <a:gd name="adj4" fmla="val -4789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mous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5224320"/>
            <a:ext cx="2210040" cy="580680"/>
          </a:xfrm>
          <a:prstGeom prst="borderCallout1">
            <a:avLst>
              <a:gd name="adj1" fmla="val 18750"/>
              <a:gd name="adj2" fmla="val -8333"/>
              <a:gd name="adj3" fmla="val -83393"/>
              <a:gd name="adj4" fmla="val -4841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 left button (at new position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4572000"/>
            <a:ext cx="1752840" cy="580680"/>
          </a:xfrm>
          <a:prstGeom prst="borderCallout1">
            <a:avLst>
              <a:gd name="adj1" fmla="val 18750"/>
              <a:gd name="adj2" fmla="val -8333"/>
              <a:gd name="adj3" fmla="val -110037"/>
              <a:gd name="adj4" fmla="val 155787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current mouse posi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0BC-7642-4A85-931A-DF2A266289B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pboard Example _sample5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&lt;start&gt; exported = demo sample five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[ (1 | 2 | 3 | 4) words ]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cd3333"/>
                </a:solidFill>
                <a:latin typeface="Lucida Console"/>
              </a:rPr>
              <a:t># figure out how many word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if len(words) &gt; 3: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count = int(words[3]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else: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count = 1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cd3333"/>
                </a:solidFill>
                <a:latin typeface="Lucida Console"/>
              </a:rPr>
              <a:t># select that many word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atlink.playString('{ctrl+right}{left}'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atlink.playString('{ctrl+shift+left %d}'%count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atlink.playString('{ctrl+c}'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text = natlink.getClipboard(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cd3333"/>
                </a:solidFill>
                <a:latin typeface="Lucida Console"/>
              </a:rPr>
              <a:t># reverse the text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ewText = reverse(text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atlink.playString(newText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# ... 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6019920"/>
            <a:ext cx="2209680" cy="580680"/>
          </a:xfrm>
          <a:prstGeom prst="borderCallout1">
            <a:avLst>
              <a:gd name="adj1" fmla="val 18750"/>
              <a:gd name="adj2" fmla="val -8333"/>
              <a:gd name="adj3" fmla="val -14680"/>
              <a:gd name="adj4" fmla="val -4604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erse function defined later in fil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819520"/>
            <a:ext cx="2361960" cy="824040"/>
          </a:xfrm>
          <a:prstGeom prst="borderCallout1">
            <a:avLst>
              <a:gd name="adj1" fmla="val 18750"/>
              <a:gd name="adj2" fmla="val -8333"/>
              <a:gd name="adj3" fmla="val 142486"/>
              <a:gd name="adj4" fmla="val -9152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more than 3 words recognized, 4th word will be word count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4038480"/>
            <a:ext cx="2362320" cy="580680"/>
          </a:xfrm>
          <a:prstGeom prst="borderCallout1">
            <a:avLst>
              <a:gd name="adj1" fmla="val 18750"/>
              <a:gd name="adj2" fmla="val -8333"/>
              <a:gd name="adj3" fmla="val 159972"/>
              <a:gd name="adj4" fmla="val -1665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elects previous “count” word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5257800"/>
            <a:ext cx="2451240" cy="580680"/>
          </a:xfrm>
          <a:prstGeom prst="borderCallout1">
            <a:avLst>
              <a:gd name="adj1" fmla="val 18750"/>
              <a:gd name="adj2" fmla="val -8333"/>
              <a:gd name="adj3" fmla="val 28995"/>
              <a:gd name="adj4" fmla="val -59439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py selected text to clipboard, then fetch i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52A-FF44-4A4E-AB5B-8F1E1FA7AE9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ebugging and using Prin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file is changed on disk, it is automatically reloads at start of utter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urning on mic also looks for new fi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ython output is shown in popup window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ndow automatically appears when necessar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ython errors cause tracebacks in window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rrect file, toggle microphone to reloa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“print” statement to display debug inf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D78F-4CF2-425D-8D8A-09086FE9AA3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E60-16D0-4767-AF86-FC41215C5EA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lobal vs App-Specific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les whose name begins with underscore are always loaded; ex: _mouse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les whose name begins with a module name only load when that module is acti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x: wordpad.py, excel_sample.p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nce a file is loaded it is always acti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restrict grammar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est for active application at start of utteranc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r, activate grammar for one specific window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656-0804-43FF-BE3F-103115AB68D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ctivating Ru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y exported rule can be activ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Base has functions to activate and deactivate rules or sets of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f.activate(rule) - makes name rule activ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f.activateAll() - activates all exported ru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y default, activated rule is glob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f.activate(rule,window=N) - activates a rule only when window N is activ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(de)activate rules at any tim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02D-C2CD-483B-B9AA-B57142F82F0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art of Utterance Callbac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defined, “gotBegin” function is called at the start of every recogn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gets passed the module information: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odule filename, window caption, window i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“window id” can be passed to activate(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matchWindow() to test window title</a:t>
            </a:r>
            <a:br>
              <a:rPr sz="32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 if matchWindow(moduleInfo,’wordpad’,’font’):</a:t>
            </a:r>
            <a:br>
              <a:rPr sz="16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self.activate(‘fontRule’,noError=1)</a:t>
            </a:r>
            <a:br>
              <a:rPr sz="16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 else:</a:t>
            </a:r>
            <a:br>
              <a:rPr sz="16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self.deactivate(‘fontRule’,noError=1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5638680"/>
            <a:ext cx="1752480" cy="824040"/>
          </a:xfrm>
          <a:prstGeom prst="borderCallout1">
            <a:avLst>
              <a:gd name="adj1" fmla="val 18750"/>
              <a:gd name="adj2" fmla="val -8333"/>
              <a:gd name="adj3" fmla="val 34888"/>
              <a:gd name="adj4" fmla="val -56787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s errors if rule is already (not) active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1B9-E9DF-488D-9F8A-C853516044B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sing Exclusive Gramma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any grammar is “exclusive” then only exclusive grammars will be acti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lows you to restrict recogn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 you can not turn off dictation without also turning off all built-in command and contro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self.setExclusive(state), state is 0 or 1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also call self.activate(rule,exclusive=1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y number of rules from any number of grammars can all be exclusive togeth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1B7-D129-4B21-AC6B-24EE170284D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Python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preted, object-oriented pgm. langu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ften compared to Perl, but more powerfu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ree and open-source, runs on multiple OS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al as a macro language since it is interpreted and interfaces easily with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so used for web programming, numeric programming, rapid prototyping, etc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FA5-8CB4-484F-B068-9E7DF8D72D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ctivation Example _sample6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mainRule&gt; exported = demo sample six [ main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fontRule&gt; exported = demo sample six font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Begin(self,moduleInfo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indowId = matchWindow(moduleInfo,'natspeak','Dragon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windowId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('mainRule',window=windowId,noError=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indowId = matchWindow(moduleInfo,'natspeak','Font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windowId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('fontRule',exclusive=1,noError=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els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deactivate('fontRule',noError=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setExclusive(0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3200400"/>
            <a:ext cx="2133360" cy="824040"/>
          </a:xfrm>
          <a:prstGeom prst="borderCallout1">
            <a:avLst>
              <a:gd name="adj1" fmla="val 18750"/>
              <a:gd name="adj2" fmla="val -8333"/>
              <a:gd name="adj3" fmla="val 175194"/>
              <a:gd name="adj4" fmla="val -6635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&lt;mainRule&gt; to main window (has “Dragon” in title)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4343400"/>
            <a:ext cx="2209680" cy="1067400"/>
          </a:xfrm>
          <a:prstGeom prst="borderCallout1">
            <a:avLst>
              <a:gd name="adj1" fmla="val 18750"/>
              <a:gd name="adj2" fmla="val -8333"/>
              <a:gd name="adj3" fmla="val 96356"/>
              <a:gd name="adj4" fmla="val -6859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rn on &lt;fontRule&gt; exclusively when window title contains “Font”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5715000"/>
            <a:ext cx="2133720" cy="824040"/>
          </a:xfrm>
          <a:prstGeom prst="borderCallout1">
            <a:avLst>
              <a:gd name="adj1" fmla="val 18750"/>
              <a:gd name="adj2" fmla="val -8333"/>
              <a:gd name="adj3" fmla="val 48555"/>
              <a:gd name="adj4" fmla="val -8667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wise, turn off &lt;fontRule&gt; and exclusiveness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3080" y="1795320"/>
            <a:ext cx="2133720" cy="580680"/>
          </a:xfrm>
          <a:prstGeom prst="borderCallout1">
            <a:avLst>
              <a:gd name="adj1" fmla="val 18750"/>
              <a:gd name="adj2" fmla="val -8333"/>
              <a:gd name="adj3" fmla="val 320504"/>
              <a:gd name="adj4" fmla="val -11651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activateAll() in initialize function !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4ED-10F8-46BB-96E0-4B23F32CCFF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ctivating Rules from a Tab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s is from my own Lotus Notes macro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gotBegin(self, moduleInfo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deactivateAll(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captions = [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 'New Memo -', 'newMemo' 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 'New Reply -', 'newReply' 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 'Inbox -', 'inbox' 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 '- Lotus Notes', 'readMemo' 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for caption,rule_name in captions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winHandle = matchWindow(moduleInfo, 'nlnotes', caption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if winHandle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activate(rule_name, window=winHandle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3048120"/>
            <a:ext cx="2286000" cy="824040"/>
          </a:xfrm>
          <a:prstGeom prst="borderCallout1">
            <a:avLst>
              <a:gd name="adj1" fmla="val 18750"/>
              <a:gd name="adj2" fmla="val -8333"/>
              <a:gd name="adj3" fmla="val 96458"/>
              <a:gd name="adj4" fmla="val -7026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table maps caption substring to rule-name to activat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2314440"/>
            <a:ext cx="3276720" cy="337320"/>
          </a:xfrm>
          <a:prstGeom prst="borderCallout1">
            <a:avLst>
              <a:gd name="adj1" fmla="val 18750"/>
              <a:gd name="adj2" fmla="val -8333"/>
              <a:gd name="adj3" fmla="val 179953"/>
              <a:gd name="adj4" fmla="val -4466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ate nothing by defaul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5562720"/>
            <a:ext cx="2514600" cy="824040"/>
          </a:xfrm>
          <a:prstGeom prst="borderCallout1">
            <a:avLst>
              <a:gd name="adj1" fmla="val 18750"/>
              <a:gd name="adj2" fmla="val -8333"/>
              <a:gd name="adj3" fmla="val -61222"/>
              <a:gd name="adj4" fmla="val -7182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p over table to find first window caption which matche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2FA-EB5A-4FA4-B449-B8E4A3EAD5A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F24-0F63-4BFA-A697-F2AA5772605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sing OLE Autom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use OLE Automation from Python with the Python Win32 exten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ing excel_sample7.py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ay “demo sample seven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y cells which contain the name of  colors will change to match that col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04E6-A4F0-47FE-9C47-47079EBC546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tract from excel_sample7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start&gt; exported = demo sample seven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Begin(self,moduleInfo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inHandle=matchWindow(moduleInfo,'excel','Microsoft Excel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winHandl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window=winHandle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application=win32com.client.Dispatch('Excel.Application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orksheet=application.Workbooks(1).Worksheets(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for row in range(1,50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for col in 'ABCDEFGHIJKLMNOPQRSTUVWXYZ'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ell=worksheet.Range(col+str(row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colorMap.has_key(cell.Valu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ell.Font.Color=colorMap[cell.Value]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ell.Borders.Weight = consts.xlThick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53080" y="4927680"/>
            <a:ext cx="2362320" cy="824040"/>
          </a:xfrm>
          <a:prstGeom prst="borderCallout1">
            <a:avLst>
              <a:gd name="adj1" fmla="val 18750"/>
              <a:gd name="adj2" fmla="val -8333"/>
              <a:gd name="adj3" fmla="val 91481"/>
              <a:gd name="adj4" fmla="val -3903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” maps name of color to value (defined earlier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2666880"/>
            <a:ext cx="2133720" cy="824040"/>
          </a:xfrm>
          <a:prstGeom prst="borderCallout1">
            <a:avLst>
              <a:gd name="adj1" fmla="val 18750"/>
              <a:gd name="adj2" fmla="val -8333"/>
              <a:gd name="adj3" fmla="val 228337"/>
              <a:gd name="adj4" fmla="val -30277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E Automation code just like using Visual Basic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1719360"/>
            <a:ext cx="2590920" cy="580680"/>
          </a:xfrm>
          <a:prstGeom prst="borderCallout1">
            <a:avLst>
              <a:gd name="adj1" fmla="val 18750"/>
              <a:gd name="adj2" fmla="val -8333"/>
              <a:gd name="adj3" fmla="val 324717"/>
              <a:gd name="adj4" fmla="val -6917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ate grammar when we know window handl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F67-ACE6-4C65-9ACD-D0C041CF8F7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ouse Control in Pyth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_mouse.py included in NatLink downlo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 mouse and caret like in DDWin: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"mouse down … slower … left … button click"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"move down … faster … stop"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s exclusive mode to limit comman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s timer callback to move the m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A36-22E3-41BF-A1EA-CF8745A6C9C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plementing “Repeat That”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lastResult = Non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CatchAll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start&gt; exported = {emptyList}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,allResults=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Object(self,recogType,resObj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lobal lastResul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recogType == 'reject'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lastResult = Non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els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lastResult = resObj.getWords(0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733400"/>
            <a:ext cx="3429000" cy="580680"/>
          </a:xfrm>
          <a:prstGeom prst="borderCallout1">
            <a:avLst>
              <a:gd name="adj1" fmla="val 18750"/>
              <a:gd name="adj2" fmla="val -8333"/>
              <a:gd name="adj3" fmla="val 225833"/>
              <a:gd name="adj4" fmla="val -35310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grammar is never recognized because list is empt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2895480"/>
            <a:ext cx="2895480" cy="824040"/>
          </a:xfrm>
          <a:prstGeom prst="borderCallout1">
            <a:avLst>
              <a:gd name="adj1" fmla="val 18750"/>
              <a:gd name="adj2" fmla="val -8333"/>
              <a:gd name="adj3" fmla="val 114277"/>
              <a:gd name="adj4" fmla="val -4263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, allResults flag means that gotResultsObject is called for every recogni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4343400"/>
            <a:ext cx="2743200" cy="824040"/>
          </a:xfrm>
          <a:prstGeom prst="borderCallout1">
            <a:avLst>
              <a:gd name="adj1" fmla="val 18750"/>
              <a:gd name="adj2" fmla="val -8333"/>
              <a:gd name="adj3" fmla="val 134712"/>
              <a:gd name="adj4" fmla="val -6984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every recognition, we remember what words were just recognized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E59-599E-4D98-ADB9-1C6EEDF2ADB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plementing “Repeat That”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Repeat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start&gt; exported = repeat tha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[ ( 1 | 2 | 3 | 4 | 5 | 6 | 7 | 8 | 9 |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10 | 20 | 30 | 40 | 50 | 100 ) times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lobal lastResul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len(words) &gt; 2: count = int(words[2]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else: count = 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lastResult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for i in range(count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recognitionMimic(lastResult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4120" y="1828800"/>
            <a:ext cx="3429000" cy="337320"/>
          </a:xfrm>
          <a:prstGeom prst="borderCallout1">
            <a:avLst>
              <a:gd name="adj1" fmla="val 18750"/>
              <a:gd name="adj2" fmla="val -8333"/>
              <a:gd name="adj3" fmla="val 205541"/>
              <a:gd name="adj4" fmla="val -1448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ce that the count is optiona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48320" y="3352680"/>
            <a:ext cx="4038480" cy="337320"/>
          </a:xfrm>
          <a:prstGeom prst="borderCallout1">
            <a:avLst>
              <a:gd name="adj1" fmla="val 18750"/>
              <a:gd name="adj2" fmla="val -8333"/>
              <a:gd name="adj3" fmla="val 387629"/>
              <a:gd name="adj4" fmla="val -18777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ord in the result is the coun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91320" y="3886200"/>
            <a:ext cx="2971800" cy="1554120"/>
          </a:xfrm>
          <a:prstGeom prst="borderCallout1">
            <a:avLst>
              <a:gd name="adj1" fmla="val 18750"/>
              <a:gd name="adj2" fmla="val -8333"/>
              <a:gd name="adj3" fmla="val 99162"/>
              <a:gd name="adj4" fmla="val -4379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recognitionMimic to simulate the recognition of the same words; NatSpeak will test against active grammars or dictation as it the words were spoken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CA6-EAF9-4B4E-9579-5CA75903D39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ammars with Dict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dgndictation&gt; imported;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One&gt; exported = demo sample eight &lt;dgndictation&gt; [ stop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dgnletters&gt; imported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Two&gt; exported = demo sample eight spell &lt;dgnletters&gt; [ stop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dgndictation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ords.reverse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 ' + string.join(words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dgnletters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ords = map(lambda x: x[:1], words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 ' + string.join(words, ''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1752480"/>
            <a:ext cx="4495680" cy="580680"/>
          </a:xfrm>
          <a:prstGeom prst="borderCallout1">
            <a:avLst>
              <a:gd name="adj1" fmla="val 18750"/>
              <a:gd name="adj2" fmla="val -8333"/>
              <a:gd name="adj3" fmla="val 170879"/>
              <a:gd name="adj4" fmla="val -3159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dgndictation&gt; is built-in rule for dictation.  Optional word ”stop” is never recognized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7080" y="5189400"/>
            <a:ext cx="4419720" cy="824040"/>
          </a:xfrm>
          <a:prstGeom prst="borderCallout1">
            <a:avLst>
              <a:gd name="adj1" fmla="val 18750"/>
              <a:gd name="adj2" fmla="val -8333"/>
              <a:gd name="adj3" fmla="val -242310"/>
              <a:gd name="adj4" fmla="val -35800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dgnletters&gt; is built-in rule for spelling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had to add word “spell” or the spelling was confused with dictation in &lt;ruleOne&gt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D6C-F9C0-44B8-A036-0B43D07B163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8C1-17DA-4893-8A9C-B3A474A23C3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NatLink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compatibility module (like NatText)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 allows you to write NatSpeak command macros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Python language extension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 allows you to control NatSpeak from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ks with all versions of NatSpea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ree and open-source, freely distributable*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E96-2611-4C08-ABEF-49BD037FF1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Document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\NatLink\NatLinkSource\NatLink.txt contains the documentation for calling the natlink module from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 macro files are all heavily documented; in \NatLink\SampleMacr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yntax defined in gramparser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Base defined in natlinkutils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lso defines utility functions and consta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F96-A8C8-4BB9-A527-D5BACE9D0B5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ere to Get More Help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Joel’s NatSpeak web site:</a:t>
            </a:r>
            <a:br>
              <a:rPr sz="32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ttp://www.synapseadaptive.com/joel/default.ht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ython language web site:</a:t>
            </a:r>
            <a:br>
              <a:rPr sz="32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ttp://www.python.org/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ooks on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e Joel’s NatSpeak site for recommendat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Python mailing list:</a:t>
            </a:r>
            <a:br>
              <a:rPr sz="32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ttp://harvee.billerica.ma.us/mailman/listinfo/natpyth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ing COM from Python:</a:t>
            </a:r>
            <a:br>
              <a:rPr sz="2800"/>
            </a:b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Python Programming on Win32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by Mark Hammon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B85-C6CD-4512-BE7A-A54183877E4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oking at the Source Co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source code included in downlo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ource code is well documen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ten in Microsoft Visual C++ 6.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ome features from Microsoft SAPI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et SAPI documentation from Microsof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ragon-specific extensions not documen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4FF-A566-4A34-8A5D-61DB7E2D789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ll Do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Microphone Off”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B650-6F1A-439D-B698-10CE488FF5E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*Licensing Restri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requires that you have a legally licensed copy of Dragon NaturallySpeak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use NatLink you must also agree to the license agreement for the NatSpeak toolk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on Natlink will require the NatSpeak toolki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NatSpeak toolkit is a free download from http://www.dragonsys.co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F7F-9313-45EB-A378-CFEC642B72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is Better than Prof. Ed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s can include alternates, optionals, repeats and nested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n restrict recognition to one gram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n change grammars at start of any recog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n have multiple macro fi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hanges to macro files load immediate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cros have access to all features of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2E2-34BD-468B-8616-5CD1E13512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is Harder to Us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is not a supported product</a:t>
            </a:r>
            <a:br>
              <a:rPr sz="3200"/>
            </a:br>
            <a:r>
              <a:rPr b="1" i="1" lang="en-US" sz="3200" spc="-1" strike="noStrike">
                <a:solidFill>
                  <a:srgbClr val="402000"/>
                </a:solidFill>
                <a:latin typeface="Times New Roman"/>
              </a:rPr>
              <a:t>Do not call Tech Support with ques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may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not work with NatSpeak &gt; 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will work fine with NatSpeak 5.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ocumentation is not comple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 GUI or fancy user interfa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quires some knowledge of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ore like real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3352680"/>
            <a:ext cx="761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0D3-7033-4C8D-8267-320DF3061A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2:00:21Z</dcterms:created>
  <dc:creator>Preferred Customer</dc:creator>
  <dc:description/>
  <dc:language>en-US</dc:language>
  <cp:lastModifiedBy>Joel Gould</cp:lastModifiedBy>
  <cp:lastPrinted>1999-11-09T19:02:25Z</cp:lastPrinted>
  <dcterms:modified xsi:type="dcterms:W3CDTF">2000-06-25T10:13:39Z</dcterms:modified>
  <cp:revision>29</cp:revision>
  <dc:subject/>
  <dc:title>NatLink: A Python Macro System for Dragon NaturallySpeaking</dc:title>
</cp:coreProperties>
</file>