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4DE-8D0B-4786-A3A1-C7A2CC3E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2AA-0F4F-4658-9881-24F168D4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A32-756E-4450-9070-9E860EF1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5A7-CD02-4AE4-8E61-15800FE4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2F52-0846-4330-9B9B-7CA521B6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047C-53C0-470F-898A-6667C87B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EC9F-C629-4E72-A8D2-E13C6BF0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FD69-3DB8-4E20-BC85-5BC0807A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A84C-08F9-4CB3-A6C4-A4DDE61B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1214-9367-47FA-AFD9-EDE0AD97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D34A-0ECC-45B5-A39A-1D4BE646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7E9-4F2D-4254-8CFA-DD2F5A49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60F4-3008-4891-ABDB-B92E45D7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ED5B-2603-4DC4-A6FA-36BBAA5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027E-83BF-48FD-90DD-F1E28143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9875-08FE-41AE-97B7-BFB755D2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5C51-13E7-47F3-92C6-44B5FC77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6C9-3973-4548-8E06-D4A62287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31C-0CB7-4961-8C59-9F5A0C6D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7B8-8BF8-451B-B54F-4E9F83EB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A36-F6FA-4874-B24D-1D2E1B32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656-D3EB-4E3A-9428-8FA4F61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790-B1B0-42A9-ADE6-4690BE71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A08-A8DE-461F-BEB8-9B7693F5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FBA4-A07E-4E7D-9D61-BEF36F70B88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B41D-E42C-4829-8752-2866CBAE164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: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 Python Macro System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 Dragon NaturallySpea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Joel Gould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irector of Emerging Technologies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ragon System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A272-4030-44D0-A70D-8011773D4B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7BA-DD5C-4F81-A27B-5C0FB5002B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you Need to Instal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y edition, version 3.0 or bett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1.5.2 for Windows: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y152.exe from http://www.python.org/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do not need to install Tcl/T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: natlink.zip from 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ttp://www.synapseadaptive.com/joel/default.ht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in32 extensions are optional: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n32all.exe from http://www.python.org/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E7F-5B3C-4831-8141-25BBB2ED2B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tting up NatLin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stall NatSpeak and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zip natlink.zip into c:\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n \NatLink\MacroSystem\EnableNL.ex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sets the necessary registry vari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also turns NatLink on or of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run sample macros, copy macro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rom: \NatLink\SampleMac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: \NatLink\MacroSyst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6A2-BD93-420F-9C8E-77AAD110A9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Create Macro Fi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cro files are Python source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Wordpad or any other text edit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ve files as text with .py exten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lobal files should be named _xxx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p-specific files should be named with the application name (ex: wordpad_xxx.py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py files to \NatLink\Macro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r to \NatSpeak\Users\username\Curr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389-D7CC-4DCF-8A4A-FC8AC22D0B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Example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 _sample1.py contains one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ay “demo sample one” and it types: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eard macro “sample on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ACA-27B3-4BEE-BC20-8694B5786E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urce Code for _sample1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mport natlin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rom natlinkutils import *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start&gt; exported = demo sample on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Heard macro "sample one"{enter}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 = ThisGrammar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.initialize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unload(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thisGramma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thisGrammar: thisGrammar.unload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828800"/>
            <a:ext cx="2210040" cy="824040"/>
          </a:xfrm>
          <a:prstGeom prst="borderCallout1">
            <a:avLst>
              <a:gd name="adj1" fmla="val 18750"/>
              <a:gd name="adj2" fmla="val -8333"/>
              <a:gd name="adj3" fmla="val 143185"/>
              <a:gd name="adj4" fmla="val -4661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grammar.  You can say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demo sample one”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4419720"/>
            <a:ext cx="2209680" cy="824040"/>
          </a:xfrm>
          <a:prstGeom prst="borderCallout1">
            <a:avLst>
              <a:gd name="adj1" fmla="val 18750"/>
              <a:gd name="adj2" fmla="val -8333"/>
              <a:gd name="adj3" fmla="val -66023"/>
              <a:gd name="adj4" fmla="val -4775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action.  We type text into the active window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60556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-28064"/>
              <a:gd name="adj4" fmla="val -4179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 the rest of this file is boiler plat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114800"/>
            <a:ext cx="0" cy="21337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ECB-6134-40EB-ACD6-61A053E9B5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Example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d a second command with alterna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ype (into application) the command and alternative which was recogniz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will tell you which rule was recognized by calling a named fun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_firstRule for &lt;firstRule&gt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_secondRule for &lt;secondRule&gt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7D3-B6DB-4497-8E2B-AC97528B0C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_sample2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firstRule&gt; exported = demo sample two [ hel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secondRule&gt; exported = demo sample tw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( red | blue | green | purple | black | white | yellow |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orange | magenta | cyan | gray 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first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Say "demo sample two {ctrl+i}color{ctrl+i}"{enter}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econd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The color is "%s" {enter}'%words[3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82880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143615"/>
              <a:gd name="adj4" fmla="val -4661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grammar.  It has two rule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3471840"/>
            <a:ext cx="2209680" cy="580680"/>
          </a:xfrm>
          <a:prstGeom prst="borderCallout1">
            <a:avLst>
              <a:gd name="adj1" fmla="val 18750"/>
              <a:gd name="adj2" fmla="val -8333"/>
              <a:gd name="adj3" fmla="val 121125"/>
              <a:gd name="adj4" fmla="val -1579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e do when “firstRule” is heard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5389560"/>
            <a:ext cx="3048120" cy="1067400"/>
          </a:xfrm>
          <a:prstGeom prst="borderCallout1">
            <a:avLst>
              <a:gd name="adj1" fmla="val 18750"/>
              <a:gd name="adj2" fmla="val -8333"/>
              <a:gd name="adj3" fmla="val -30476"/>
              <a:gd name="adj4" fmla="val -2806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e do when “secondRule” is heard.  Words[3] is the 4th word in the result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4F4-9D43-44C2-A9AC-A856382E11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FBF-9474-4638-94E5-0E7CF25AC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rings and Thing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ring constants can use either single quote or double quot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This is a string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This string has a single quote (') inside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triple quotes for multiple line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line 1 of stri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ine 2 of string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lus will concatenate two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one'+'two'='onetwo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cent sign allows sprintf-like func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I heard %d' % 13 = 'I heard 13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the %s costs $%1.2f' % ('book',5) = 'the book costs $5.00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79F-4171-4F72-BDE0-DD11A3BFCE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pyright Infor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is version 1.1 of this pres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anges: look in corner of slides for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V 1.1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indic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version of the presentation was given to the Voice Coder’s group on June 25, 200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contents of this presentation are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© Copyright 1999-2000 by Joel Goul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ermission is hereby given to freely distribute this presentation unmodifi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tact Joel Gould for more information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joelg@alum.mit.ed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0CB-B3D2-4674-B0A7-D87FBEF57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ments and Blo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ents begin with pound sig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# Comment from here until end of line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'hello' # comment starts at pound sig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locks are delimited by indentation, the line which introduces a block ends in a colo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if a==1 and b==2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a is one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b is two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else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either a is not one or b is not two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x = 0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while x &lt; 10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x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x = x + 1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'all done'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08C-5642-492C-8AAC-1A33B13EB1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s and Loo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s are like arrays; they are sets of th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brackets when defining a lis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myList = [1,2,3]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another = ['one',2,myList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brackets to get or change a list elemen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myList[1]    # prints 2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another[2]   # prints [1,2,3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“for” statement can iterate over a lis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total = 0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for x in myList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otal = total + x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x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# prints 6 (1+2+3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325-60B8-435E-A2E8-B149FC5F01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fining and Calling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the “def” statement to define a fun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 the arguments in parens after the name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def globalFunction(x,y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otal = x + y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the total is',tota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 of a function call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globalFunction(4,7)  # this prints "the total is 11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turn statement is optional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def addNumbers(x,y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 x + y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addNumbers(4,7)    # this prints "11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61A-2487-4F22-8858-E1CB3038AB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dules and Clas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ll functions inside other modules by using the module name before the functio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import string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string.upper('word'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e classes with “class” statement and class functions with “def” statemen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MyClass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localFunction(self,x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value is x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object = MyClass          # create instance of MyClass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object.localFunction(10)  # prints "value is 10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DB0-62F5-4EAB-AF1B-FC07E28F63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f and Class Inherit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lf” param passed to class functions points back to that instance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ParentClass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sampleFunc(self,value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variable = value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parentFunc(self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sampleFunc(10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 self.variable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# returns 1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also use “self” to reference functions in parent classes (inherence)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ChildClass(ParentClass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childFunc(self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self.parentFunc()     # prints "10"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self.variable         # also prints "10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24A-2134-4524-90F2-B60C278246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BE0-78B8-416A-927F-183A4AF1D6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 Gramma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grammars are based on SAP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s include: rules, lists and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stinguished by how they are spell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, {list}, word, "word with space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pecification is a set of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rule is combination of references to words, lists and other rules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&lt;myRule&gt; = one &lt;subRule&gt; and {number} ;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&lt;subRule&gt; = hundred | thousand 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2A0-9CD5-4BFA-9275-24F5050D7B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ecifying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compiles a set of rules when a grammar is loaded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this compiles and load rul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s should be defined in a Python string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gramSpec = "&lt;myRule&gt; = one two three;"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gramSpec2 = """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= go to sleep;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= wake up;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e rules as rule-name, equal-sign, expression; end rule with a semicol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78D-CF69-46D6-9E64-5D908F4FE3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Rule 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in a sequence must spoken in or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two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st say “one two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brackets for options expres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[ two ]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three” or “one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ertical bar for alternatives, parens to grou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( two | three four ) fiv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five” or “one three four fiv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B16-09C9-44FD-B2A8-440AB43ED1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sted Rules and Repea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s can refer to other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&lt;subRule&gt; four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subRule&gt; = two |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four” or “one three four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plus sign for repeats, one or more ti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( two )+ thre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three”, “one two two three”, “one two two two three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597-5931-4C6C-A31E-F9B88F96D2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361-4E67-41C3-98AD-C90B68D89A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orted and Imported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only activate “exported”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myRule&gt; exported = one two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ported rules can also be used by other grammars; define external rule as impor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myRule&gt; imported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number &lt;myRule&gt;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defines three importable rul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words&gt; = set of all dictation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dictation&gt; = repeated dictation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letters&gt; = repeated spelling lett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DB1-5C7F-4513-9E76-8E43A5E73D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aling with (Grammar) Lis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s are sets of words defined la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ferencing a list causes it to be cre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number {myList}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l list with words using setList function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def initialize(self):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List('myList',['one','two','three'])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fill the list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now say “number one”, “number two” or “number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472-C71D-43F9-8690-FC9EB317C6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a Word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in NatSpeak and NatLink are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ds can have embedded spa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llo”, “New York”, “:-)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NatLink grammars, use quotes around words if the word is not just text or numb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lists are lists of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r recognition, words from lists are returned just like words in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921-AEB8-4D06-B6A6-C942CC49B5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ecial Word Spellings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with separate spoken form are spelled with backslash:  “written\spoken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unctuation is most common exam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\period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{\open brac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ters are spelled with two backslash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\\l”, “b\\l”, “c\\l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AD4-5E24-4F14-9BA2-227C7D8D00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mmar Syntax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requires rules in binary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nary format is defined by SAPI and is documented in SAPI docum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parser.py converts text to bina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 syntax is described in gramparser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also supports dictation grammars and “Select XYZ” grammars.  These are covered in another talk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BF5-DB01-4D9A-9053-CD07827C2F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B0E-FECF-45B5-8AFA-3D29EF0DBC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tting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a rule is recognized, NatLink calls your function named “gotResults_xxx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re “xxx” is the name of the ru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get passed the sequential words recognized in that ru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(self,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ord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,fullResult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unction called for innermost rule on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sider the following examp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387-5512-4358-9EEE-FC169C219E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_sample3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mainRule&gt; exported = &lt;ruleOne&gt;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= demo &lt;ruleTwo&gt; now pleas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= sample thre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main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mainRule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ruleOn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ruleOne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ruleTwo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ruleTwo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79132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-31907"/>
              <a:gd name="adj4" fmla="val 11403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(x)” formats “x” into a printable string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821-92DF-4407-B5C1-F7D972553F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unning Demo Sample 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you say “demo sample 3 now please”, resulting text sent to application i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One&gt; = ['demo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Two&gt; = ['sample', 'three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One&gt; = ['now','please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 “mainRule” has no words so gotResults_mainRule is never call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otResults_ruleOne is called twice, before and after gotResults_ruleTwo is call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ach function only sees relevant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BF0-1A2E-4464-B536-6E31FF0DB5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ther gotResults Callba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ResultsInit” is called fir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Results” is called la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oth get passed all the word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lled functions from previous 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Init( ['demo','sample','three',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One( ['demo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Two( ['sample','thre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One( [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( ['demo','sample','three',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3BF-704A-46F5-8234-BD085A780E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NaturallySpeaking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ld’s first and best large vocabulary continuous speech recognition 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imarily designed for dictation by voi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so contains fully functional continuous command recognition (based on SAPI 4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fessional Edition includes simple basic-like language for writing simple mac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F5B-B3F1-40A8-99CA-A0F340D370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mon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playString(keys) sends keystrok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ks just like “SendKeys” in NatSpeak Pr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clude special keystrokes in braces: “{enter}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setMicState(state) controls m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re state is 'on', 'off' or 'sleeping'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.getMicState() returns current sta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execScript(command) runs any built-in NatSpeak scripting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.execScript('SendKeys "{enter}"'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F9F-3FA2-4913-B3C5-ACD70007772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re Common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recognitionMimic(words) behaves as if passed words were “heard”</a:t>
            </a:r>
            <a:br>
              <a:rPr sz="32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natlink.recognitionMimic(['Select','hello','there']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ks just like “HeardWord” in NatSpeak Pr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15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playEvents(list) to control m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ss in a list of windows input ev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utils.py has constants and buttonClick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15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getClipboard() returns clipboard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this to get text from ap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5B1-762E-4C2A-9FD0-39F1249DC6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use Movement _sample4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&lt;start&gt; exported = demo sample four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cd3333"/>
                </a:solidFill>
                <a:latin typeface="Lucida Console"/>
              </a:rPr>
              <a:t># execute a control-left drag down 30 pixel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x,y = natlink.getCursorPos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natlink.playEvents( [ (wm_keydown,vk_control,1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lbuttondown,x,y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mousemove,x,y+30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lbuttonup,x,y+30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keyup,vk_control,1) ] 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2666880"/>
            <a:ext cx="1981440" cy="337320"/>
          </a:xfrm>
          <a:prstGeom prst="borderCallout1">
            <a:avLst>
              <a:gd name="adj1" fmla="val 18750"/>
              <a:gd name="adj2" fmla="val -8333"/>
              <a:gd name="adj3" fmla="val 406500"/>
              <a:gd name="adj4" fmla="val -5351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control ke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6095880"/>
            <a:ext cx="2133360" cy="337320"/>
          </a:xfrm>
          <a:prstGeom prst="borderCallout1">
            <a:avLst>
              <a:gd name="adj1" fmla="val 18750"/>
              <a:gd name="adj2" fmla="val -8333"/>
              <a:gd name="adj3" fmla="val -292643"/>
              <a:gd name="adj4" fmla="val -4463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control ke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3429000"/>
            <a:ext cx="1981440" cy="337320"/>
          </a:xfrm>
          <a:prstGeom prst="borderCallout1">
            <a:avLst>
              <a:gd name="adj1" fmla="val 18750"/>
              <a:gd name="adj2" fmla="val -8333"/>
              <a:gd name="adj3" fmla="val 255435"/>
              <a:gd name="adj4" fmla="val -5102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left butt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4191120"/>
            <a:ext cx="1447920" cy="337320"/>
          </a:xfrm>
          <a:prstGeom prst="borderCallout1">
            <a:avLst>
              <a:gd name="adj1" fmla="val 18750"/>
              <a:gd name="adj2" fmla="val -8333"/>
              <a:gd name="adj3" fmla="val 103407"/>
              <a:gd name="adj4" fmla="val -4789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mou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522432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-83393"/>
              <a:gd name="adj4" fmla="val -4841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left button (at new position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572000"/>
            <a:ext cx="1752840" cy="580680"/>
          </a:xfrm>
          <a:prstGeom prst="borderCallout1">
            <a:avLst>
              <a:gd name="adj1" fmla="val 18750"/>
              <a:gd name="adj2" fmla="val -8333"/>
              <a:gd name="adj3" fmla="val -110037"/>
              <a:gd name="adj4" fmla="val 15578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current mouse posi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634-FBB0-46FB-9C1F-03DBFF4424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pboard Example _sample5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&lt;start&gt; exported = demo sample five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[ (1 | 2 | 3 | 4) words ]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figure out how many word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if len(words) &gt; 3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ount = int(words[3]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ount = 1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select that many word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right}{left}'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shift+left %d}'%coun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c}'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text = natlink.getClipboard(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reverse the text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ewText = reverse(tex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newTex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# ... 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6019920"/>
            <a:ext cx="2209680" cy="580680"/>
          </a:xfrm>
          <a:prstGeom prst="borderCallout1">
            <a:avLst>
              <a:gd name="adj1" fmla="val 18750"/>
              <a:gd name="adj2" fmla="val -8333"/>
              <a:gd name="adj3" fmla="val -14680"/>
              <a:gd name="adj4" fmla="val -4604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erse function defined later in fi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819520"/>
            <a:ext cx="2361960" cy="824040"/>
          </a:xfrm>
          <a:prstGeom prst="borderCallout1">
            <a:avLst>
              <a:gd name="adj1" fmla="val 18750"/>
              <a:gd name="adj2" fmla="val -8333"/>
              <a:gd name="adj3" fmla="val 142486"/>
              <a:gd name="adj4" fmla="val -9152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more than 3 words recognized, 4th word will be word count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03848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159972"/>
              <a:gd name="adj4" fmla="val -1665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elects previous “count” word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5257800"/>
            <a:ext cx="2451240" cy="580680"/>
          </a:xfrm>
          <a:prstGeom prst="borderCallout1">
            <a:avLst>
              <a:gd name="adj1" fmla="val 18750"/>
              <a:gd name="adj2" fmla="val -8333"/>
              <a:gd name="adj3" fmla="val 28995"/>
              <a:gd name="adj4" fmla="val -5943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y selected text to clipboard, then fetch 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65E-91A5-40B3-9B47-500B21F035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bugging and using Pri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file is changed on disk, it is automatically reloads at start of utter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urning on mic also looks for new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output is shown in popup wind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ndow automatically appears when necess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errors cause tracebacks in wind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rrect file, toggle microphone to relo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“print” statement to display debug inf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123-5D8A-45B2-91B5-EDE47700F93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E93-D76C-44C0-99FA-A7489935C7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lobal vs App-Specific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s whose name begins with underscore are always loaded; ex: _mouse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s whose name begins with a module name only load when that module is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: wordpad.py, excel_sample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nce a file is loaded it is always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restrict grammar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est for active application at start of uttera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r, activate grammar for one specific windo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326-3202-48AD-B3FB-C207FD6F11C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ng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exported rule can be activ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Base has functions to activate and deactivate rules or sets of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(rule) - makes name rule act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All() - activates all exported ru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y default, activated rule is glob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(rule,window=N) - activates a rule only when window N is act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(de)activate rules at any t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BD7-8A3E-4F90-B70A-8D3ECF93D4A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t of Utterance Call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Begin” function is called at the start of every recogn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gets passed the module information: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dule filename, window caption, window i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“window id” can be passed to activate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matchWindow() to test window title</a:t>
            </a:r>
            <a:br>
              <a:rPr sz="32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if matchWindow(moduleInfo,’wordpad’,’font’):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self.activate(‘fontRule’,noError=1)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else: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self.deactivate(‘fontRule’,noError=1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5638680"/>
            <a:ext cx="1752480" cy="824040"/>
          </a:xfrm>
          <a:prstGeom prst="borderCallout1">
            <a:avLst>
              <a:gd name="adj1" fmla="val 18750"/>
              <a:gd name="adj2" fmla="val -8333"/>
              <a:gd name="adj3" fmla="val 34888"/>
              <a:gd name="adj4" fmla="val -5678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s errors if rule is already (not) activ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548-DD1A-477D-BE0F-B6C1DA2A333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Exclusive Gramma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any grammar is “exclusive” then only exclusive grammars will be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lows you to restrict recogn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you can not turn off dictation without also turning off all built-in command and contro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self.setExclusive(state), state is 0 or 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also call self.activate(rule,exclusive=1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number of rules from any number of grammars can all be exclusive togeth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BA0-577D-4867-873F-A366A7DBCB7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Python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preted, object-oriented pgm. langu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ften compared to Perl, but more powerfu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ree and open-source, runs on multiple O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al as a macro language since it is interpreted and interfaces easily with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so used for web programming, numeric programming, rapid prototyping, etc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298-B664-4F98-9E9A-3F37979212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on Example _sample6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mainRule&gt; exported = demo sample six [ main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fontRule&gt; exported = demo sample six font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dowId = matchWindow(moduleInfo,'natspeak','Dragon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dowId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'mainRule',window=windowId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dowId = matchWindow(moduleInfo,'natspeak','Font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dowId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'fontRule',exclusive=1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deactivate('fontRule'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Exclusive(0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3200400"/>
            <a:ext cx="2133360" cy="824040"/>
          </a:xfrm>
          <a:prstGeom prst="borderCallout1">
            <a:avLst>
              <a:gd name="adj1" fmla="val 18750"/>
              <a:gd name="adj2" fmla="val -8333"/>
              <a:gd name="adj3" fmla="val 175194"/>
              <a:gd name="adj4" fmla="val -6635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&lt;mainRule&gt; to main window (has “Dragon” in title)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4343400"/>
            <a:ext cx="2209680" cy="1067400"/>
          </a:xfrm>
          <a:prstGeom prst="borderCallout1">
            <a:avLst>
              <a:gd name="adj1" fmla="val 18750"/>
              <a:gd name="adj2" fmla="val -8333"/>
              <a:gd name="adj3" fmla="val 96356"/>
              <a:gd name="adj4" fmla="val -6859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rn on &lt;fontRule&gt; exclusively when window title contains “Font”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5715000"/>
            <a:ext cx="2133720" cy="824040"/>
          </a:xfrm>
          <a:prstGeom prst="borderCallout1">
            <a:avLst>
              <a:gd name="adj1" fmla="val 18750"/>
              <a:gd name="adj2" fmla="val -8333"/>
              <a:gd name="adj3" fmla="val 48555"/>
              <a:gd name="adj4" fmla="val -8667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wise, turn off &lt;fontRule&gt; and exclusivenes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1795320"/>
            <a:ext cx="2133720" cy="580680"/>
          </a:xfrm>
          <a:prstGeom prst="borderCallout1">
            <a:avLst>
              <a:gd name="adj1" fmla="val 18750"/>
              <a:gd name="adj2" fmla="val -8333"/>
              <a:gd name="adj3" fmla="val 320504"/>
              <a:gd name="adj4" fmla="val -11651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ctivateAll() in initialize function !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965-5ACA-43F4-A589-9C12F928CC9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ng Rules from a Ta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is from my own Lotus Notes macr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deactivateAll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captions = [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New Memo -', 'newMemo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New Reply -', 'newReply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Inbox -', 'inbox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- Lotus Notes', 'readMemo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for caption,rule_name in captions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winHandle = matchWindow(moduleInfo, 'nlnotes', caption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if winHandl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activate(rule_name, window=winHandle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3048120"/>
            <a:ext cx="2286000" cy="824040"/>
          </a:xfrm>
          <a:prstGeom prst="borderCallout1">
            <a:avLst>
              <a:gd name="adj1" fmla="val 18750"/>
              <a:gd name="adj2" fmla="val -8333"/>
              <a:gd name="adj3" fmla="val 96458"/>
              <a:gd name="adj4" fmla="val -7026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table maps caption substring to rule-name to activat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314440"/>
            <a:ext cx="3276720" cy="337320"/>
          </a:xfrm>
          <a:prstGeom prst="borderCallout1">
            <a:avLst>
              <a:gd name="adj1" fmla="val 18750"/>
              <a:gd name="adj2" fmla="val -8333"/>
              <a:gd name="adj3" fmla="val 179953"/>
              <a:gd name="adj4" fmla="val -4466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nothing by defaul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5562720"/>
            <a:ext cx="2514600" cy="824040"/>
          </a:xfrm>
          <a:prstGeom prst="borderCallout1">
            <a:avLst>
              <a:gd name="adj1" fmla="val 18750"/>
              <a:gd name="adj2" fmla="val -8333"/>
              <a:gd name="adj3" fmla="val -61222"/>
              <a:gd name="adj4" fmla="val -7182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 over table to find first window caption which match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BC8-4A54-49D4-A38D-FBF7FAFB795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F17-E35C-4607-B971-9BB763951F3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OLE Auto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use OLE Automation from Python with the Python Win32 exten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ing excel_sample7.py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y “demo sample seven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cells which contain the name of  colors will change to match that col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005-9DD5-436E-86F4-F24D4455BE7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excel_sample7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demo sample seven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Handle=matchWindow(moduleInfo,'excel','Microsoft Excel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Handl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window=winHandl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application=win32com.client.Dispatch('Excel.Application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ksheet=application.Workbooks(1).Worksheets(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row in range(1,50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col in 'ABCDEFGHIJKLMNOPQRSTUVWXYZ'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=worksheet.Range(col+str(row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colorMap.has_key(cell.Valu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.Font.Color=colorMap[cell.Value]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.Borders.Weight = consts.xlThic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4927680"/>
            <a:ext cx="2362320" cy="824040"/>
          </a:xfrm>
          <a:prstGeom prst="borderCallout1">
            <a:avLst>
              <a:gd name="adj1" fmla="val 18750"/>
              <a:gd name="adj2" fmla="val -8333"/>
              <a:gd name="adj3" fmla="val 91481"/>
              <a:gd name="adj4" fmla="val -3903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” maps name of color to value (defined earlier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2666880"/>
            <a:ext cx="2133720" cy="824040"/>
          </a:xfrm>
          <a:prstGeom prst="borderCallout1">
            <a:avLst>
              <a:gd name="adj1" fmla="val 18750"/>
              <a:gd name="adj2" fmla="val -8333"/>
              <a:gd name="adj3" fmla="val 228337"/>
              <a:gd name="adj4" fmla="val -3027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E Automation code just like using Visual Basic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171936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324717"/>
              <a:gd name="adj4" fmla="val -6917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grammar when we know window hand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9B1-9E03-4BE9-88B5-71C625EF878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use Control in Pyth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_mouse.py included in NatLink downlo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 mouse and caret like in DDWin: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"mouse down … slower … left … button click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"move down … faster … stop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exclusive mode to limit comman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timer callback to move the m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1D3-F28A-4E51-8FA5-B9A49F9EAA7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“Repeat That”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CatchAll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{emptyList}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,allResults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Object(self,recogType,resObj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lastResul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recogType == 'reject'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resObj.getWords(0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733400"/>
            <a:ext cx="3429000" cy="580680"/>
          </a:xfrm>
          <a:prstGeom prst="borderCallout1">
            <a:avLst>
              <a:gd name="adj1" fmla="val 18750"/>
              <a:gd name="adj2" fmla="val -8333"/>
              <a:gd name="adj3" fmla="val 225833"/>
              <a:gd name="adj4" fmla="val -35310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grammar is never recognized because list is empt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2895480"/>
            <a:ext cx="2895480" cy="824040"/>
          </a:xfrm>
          <a:prstGeom prst="borderCallout1">
            <a:avLst>
              <a:gd name="adj1" fmla="val 18750"/>
              <a:gd name="adj2" fmla="val -8333"/>
              <a:gd name="adj3" fmla="val 114277"/>
              <a:gd name="adj4" fmla="val -4263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, allResults flag means that gotResultsObject is called for every recogni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343400"/>
            <a:ext cx="2743200" cy="824040"/>
          </a:xfrm>
          <a:prstGeom prst="borderCallout1">
            <a:avLst>
              <a:gd name="adj1" fmla="val 18750"/>
              <a:gd name="adj2" fmla="val -8333"/>
              <a:gd name="adj3" fmla="val 134712"/>
              <a:gd name="adj4" fmla="val -6984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every recognition, we remember what words were just recognized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C56-1A7E-44E9-A7B0-73F4A4BBBD2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“Repeat That”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Repeat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repeat tha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[ ( 1 | 2 | 3 | 4 | 5 | 6 | 7 | 8 | 9 |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10 | 20 | 30 | 40 | 50 | 100 ) times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lastResul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len(words) &gt; 2: count = int(words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 count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lastResult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i in range(count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recognitionMimic(lastResult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1828800"/>
            <a:ext cx="3429000" cy="337320"/>
          </a:xfrm>
          <a:prstGeom prst="borderCallout1">
            <a:avLst>
              <a:gd name="adj1" fmla="val 18750"/>
              <a:gd name="adj2" fmla="val -8333"/>
              <a:gd name="adj3" fmla="val 205541"/>
              <a:gd name="adj4" fmla="val -1448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 that the count is option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3352680"/>
            <a:ext cx="4038480" cy="337320"/>
          </a:xfrm>
          <a:prstGeom prst="borderCallout1">
            <a:avLst>
              <a:gd name="adj1" fmla="val 18750"/>
              <a:gd name="adj2" fmla="val -8333"/>
              <a:gd name="adj3" fmla="val 387629"/>
              <a:gd name="adj4" fmla="val -1877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ord in the result is the coun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3886200"/>
            <a:ext cx="2971800" cy="1554120"/>
          </a:xfrm>
          <a:prstGeom prst="borderCallout1">
            <a:avLst>
              <a:gd name="adj1" fmla="val 18750"/>
              <a:gd name="adj2" fmla="val -8333"/>
              <a:gd name="adj3" fmla="val 99162"/>
              <a:gd name="adj4" fmla="val -4379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recognitionMimic to simulate the recognition of the same words; NatSpeak will test against active grammars or dictation as it the words were spoke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E37-9E61-4B08-93DE-81FBC966019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mmars with Dic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dgndictation&gt; imported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exported = demo sample eight &lt;dgndictation&gt; [ sto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dgnletters&gt; imported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exported = demo sample eight spell &lt;dgnletters&gt; [ sto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dgndictation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ds.reverse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 ' + string.join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dgnletters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ds = map(lambda x: x[:1], 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 ' + string.join(words, ''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1752480"/>
            <a:ext cx="4495680" cy="580680"/>
          </a:xfrm>
          <a:prstGeom prst="borderCallout1">
            <a:avLst>
              <a:gd name="adj1" fmla="val 18750"/>
              <a:gd name="adj2" fmla="val -8333"/>
              <a:gd name="adj3" fmla="val 170879"/>
              <a:gd name="adj4" fmla="val -3159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dgndictation&gt; is built-in rule for dictation.  Optional word ”stop” is never recognized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5189400"/>
            <a:ext cx="4419720" cy="824040"/>
          </a:xfrm>
          <a:prstGeom prst="borderCallout1">
            <a:avLst>
              <a:gd name="adj1" fmla="val 18750"/>
              <a:gd name="adj2" fmla="val -8333"/>
              <a:gd name="adj3" fmla="val -242310"/>
              <a:gd name="adj4" fmla="val -35800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dgnletters&gt; is built-in rule for spelling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had to add word “spell” or the spelling was confused with dictation in &lt;ruleOne&gt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8EA-575A-40BB-B7CE-058241B704B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F19-319C-4139-861A-1FC28EAA9D6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NatLink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patibility module (like NatText)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allows you to write NatSpeak command macro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Python language extensio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allows you to control NatSpeak from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ks with all versions of NatSpea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ree and open-source, freely distributable*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2EE-30AC-406E-93B0-CD3CDE163E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Documen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\NatLink\NatLinkSource\NatLink.txt contains the documentation for calling the natlink module from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 macro files are all heavily documented; in \NatLink\SampleMac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yntax defined in gramparser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Base defined in natlinkutils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so defines utility functions and consta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C9B-405A-49B0-943F-039859FD5B9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ere to Get More Help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el’s NatSpeak web site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www.synapseadaptive.com/joel/default.ht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language web site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www.python.org/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ooks on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e Joel’s NatSpeak site for recommend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Python mailing list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harvee.billerica.ma.us/mailman/listinfo/natpyth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ing COM from Python:</a:t>
            </a:r>
            <a:br>
              <a:rPr sz="2800"/>
            </a:b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Python Programming on Win32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by Mark Hammo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FCF-9D65-4AB3-ACE1-18359738F80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oking at the Source C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source code included in downlo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urce code is well documen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Microsoft Visual C++ 6.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features from Microsoft SAP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et SAPI documentation from Microsof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ragon-specific extensions not documen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EA2-20E7-4F71-AC8A-B5C839B3D15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 Do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Microphone Off”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74D6-E14D-4FC7-901E-1F9D7784FD9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*Licensing Restri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requires that you have a legally licensed copy of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use NatLink you must also agree to the license agreement for the NatSpeak toolk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on Natlink will require the NatSpeak toolk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NatSpeak toolkit is a free download from http://www.dragonsys.co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B67-0813-48F7-9399-D3E53DB54C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s Better than Prof. Ed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s can include alternates, optionals, repeats and nested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restrict recognition to one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change grammars at start of any recog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have multiple macro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anges to macro files load immediate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cros have access to all features of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F3B-A707-4DB5-A72E-B29EC3D1B3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s Harder to U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is not a supported product</a:t>
            </a:r>
            <a:br>
              <a:rPr sz="3200"/>
            </a:b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Do not call Tech Support with ques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ma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not work with NatSpeak &gt;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will work fine with NatSpeak 5.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cumentation is not comple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GUI or fancy user interfa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quires some knowledge of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re like real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352680"/>
            <a:ext cx="761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7A0-ED2E-457A-92D3-2C9D1BCCC7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00:21Z</dcterms:created>
  <dc:creator>Preferred Customer</dc:creator>
  <dc:description/>
  <dc:language>en-US</dc:language>
  <cp:lastModifiedBy>Joel Gould</cp:lastModifiedBy>
  <cp:lastPrinted>1999-11-09T19:02:25Z</cp:lastPrinted>
  <dcterms:modified xsi:type="dcterms:W3CDTF">2000-06-25T10:13:39Z</dcterms:modified>
  <cp:revision>29</cp:revision>
  <dc:subject/>
  <dc:title>NatLink: A Python Macro System for Dragon NaturallySpeaking</dc:title>
</cp:coreProperties>
</file>