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C743-20E5-44C6-AEF8-451B4C7F2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55BA-6F69-45AE-ADEB-A3E5D274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FF1E-FBB9-4500-9BE7-663FEF4E1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2652-A504-4E3C-B704-8D3F0CD7F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BB68-389D-4C1C-B1CF-C54D2EEF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513B-4343-4B91-83BE-B32E6209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27E6-A0E4-4308-95DA-AE771398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C274-A9AE-47F2-B706-DD344985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C13B-ADE9-4E35-A117-44F5DD10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93D9-22F2-46F5-A6D0-6710C439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B57B-4230-4A02-A177-32572D1D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9F10-5B74-4301-BAFC-669CE1C9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5EF3-7A20-414D-B4FE-5EEE6A62E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2T20:40:02Z</dcterms:created>
  <dc:creator>pombredanne</dc:creator>
  <dc:description/>
  <dc:language>en-US</dc:language>
  <cp:lastModifiedBy>pombredanne</cp:lastModifiedBy>
  <dcterms:modified xsi:type="dcterms:W3CDTF">2015-03-22T20:40:26Z</dcterms:modified>
  <cp:revision>1</cp:revision>
  <dc:subject/>
  <dc:title>test</dc:title>
</cp:coreProperties>
</file>