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4EFFE-A124-4C86-B927-DD417C494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6909-BF21-42F8-A7E0-D1741DF6D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E3818-E07A-45AA-ACAE-7D22AEB61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1A699-1CBC-4BBD-8626-1298BA493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0191-05AC-40F2-B440-B692C1A0B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49DF0-38DB-46E1-80F1-ABE22DE4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0830A-62DE-4A06-843F-DF340E99F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12AA0-8387-4DA4-BC29-1336A7564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DBAE-E16F-4B96-9A43-4FE30AE0F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7D965-71C3-466D-8238-80E28BFA6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F675-2A3B-444A-9C10-274EB8BF9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ED20-AE86-457C-8DFA-F187F99A6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F76A-1006-40DE-B26D-854FA06753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Calibri Light"/>
              </a:rPr>
              <a:t>ISCC Test Document</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orem ipsum dolor sit amet, </a:t>
            </a:r>
            <a:endParaRPr b="0" lang="en-US" sz="18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uis autem vel eum iriure dolor </a:t>
            </a:r>
            <a:endParaRPr b="0" lang="en-US" sz="1800" spc="-1" strike="noStrike">
              <a:solidFill>
                <a:srgbClr val="000000"/>
              </a:solidFill>
              <a:latin typeface="Calibri Light"/>
            </a:endParaRPr>
          </a:p>
        </p:txBody>
      </p:sp>
      <p:sp>
        <p:nvSpPr>
          <p:cNvPr id="46"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feld 2"/>
          <p:cNvSpPr/>
          <p:nvPr/>
        </p:nvSpPr>
        <p:spPr>
          <a:xfrm>
            <a:off x="671400" y="473040"/>
            <a:ext cx="11047680" cy="67629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uis autem vel eum iriure dolor in hendrerit in vulputate velit esse molestie consequat, vel illum dolore eu feugiat nulla facilisis.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At accusam aliquyam diam diam dolore dolores duo eirmod eos erat, et nonumy sed tempor et et invidunt justo labore Stet clita ea et gubergren, kasd magna no rebum. sanctus sea sed takimata ut vero voluptua. est Lorem ipsum dolor sit amet. Lorem ipsum dolor sit amet, consetetur sadipscing elitr, sed diam nonumy eirmod tempor invidunt ut labore et dolore magna aliquyam erat.</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feld 2"/>
          <p:cNvSpPr/>
          <p:nvPr/>
        </p:nvSpPr>
        <p:spPr>
          <a:xfrm>
            <a:off x="696960" y="890640"/>
            <a:ext cx="10798200" cy="50328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7T18:52:09Z</dcterms:created>
  <dc:creator>titusz</dc:creator>
  <dc:description>comment</dc:description>
  <cp:keywords>tag</cp:keywords>
  <dc:language>en-US</dc:language>
  <cp:lastModifiedBy>titusz</cp:lastModifiedBy>
  <dcterms:modified xsi:type="dcterms:W3CDTF">2021-02-17T18:59:41Z</dcterms:modified>
  <cp:revision>1</cp:revision>
  <dc:subject/>
  <dc:title>title from metadata</dc:title>
</cp:coreProperties>
</file>