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0A97-2827-47AB-A81A-0D7B9DD3B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3080-9271-47A6-8B22-F0E6700E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D139-489C-4A8B-8618-F4D422588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6115-94C6-4E08-9C12-FB1B5C321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2807-71A6-4839-A3EA-F52D5C56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9C9A-8ADB-41D1-98C1-BE1391DA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99E3-A4B9-45B7-991E-33352E4D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3525-503F-4D58-A3F3-30A90A9E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894C-6C83-4BA5-88B5-E61872BF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6B4E-55C7-4C86-B984-F1B0BB60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4EFA-251D-48C7-B660-474576BD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16D5-8FFF-46B1-9071-3B8C4ED3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9C61-CB71-4214-A2C9-3568BBA39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20:40:02Z</dcterms:created>
  <dc:creator>pombredanne</dc:creator>
  <dc:description/>
  <dc:language>en-US</dc:language>
  <cp:lastModifiedBy>pombredanne</cp:lastModifiedBy>
  <dcterms:modified xsi:type="dcterms:W3CDTF">2015-03-22T20:40:26Z</dcterms:modified>
  <cp:revision>1</cp:revision>
  <dc:subject/>
  <dc:title>test</dc:title>
</cp:coreProperties>
</file>